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9.jpeg" ContentType="image/jpeg"/>
  <Override PartName="/ppt/media/image5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TYPE.WAV" ContentType="audio/x-wav"/>
  <Override PartName="/ppt/media/image37.jpeg" ContentType="image/jpeg"/>
  <Override PartName="/ppt/media/image13.png" ContentType="image/png"/>
  <Override PartName="/ppt/media/image40.png" ContentType="image/png"/>
  <Override PartName="/ppt/media/image31.jpeg" ContentType="image/jpeg"/>
  <Override PartName="/ppt/media/image2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45.jpeg" ContentType="image/jpeg"/>
  <Override PartName="/ppt/media/camera.wav" ContentType="audio/x-wav"/>
  <Override PartName="/ppt/media/image46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42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  <p:custShowLst>
    <p:custShow name="自定义放映 1" id="0">
      <p:sldLst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5C5F-20CC-4AB9-AA94-63D1C0CE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EA95-D29A-45B0-A2CC-3273A03B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8D89-F247-45A8-815E-60CA8E73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49A-489D-44EC-A083-A2384B60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DA8-C232-41C1-B6B5-857DA10B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9575-0592-441B-9D87-A7A724AB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86EC-456F-4F02-A888-818A0E91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D888-8E1F-490C-A552-DBDD35EB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12E1-B8D1-4598-97FA-DDF9DA31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315E-7081-4326-9DED-E31FE62D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1322-B425-4744-80FC-551B9715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2053-4EB1-44F4-8CE7-770793D6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663A-0CF6-4291-B5D1-39B26745D7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4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5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6.jpeg"/><Relationship Id="rId3" Type="http://schemas.openxmlformats.org/officeDocument/2006/relationships/image" Target="../media/image28.jpeg"/><Relationship Id="rId4" Type="http://schemas.openxmlformats.org/officeDocument/2006/relationships/image" Target="../media/image34.jpe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png"/><Relationship Id="rId7" Type="http://schemas.openxmlformats.org/officeDocument/2006/relationships/image" Target="../media/image42.jpe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3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4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琥珀"/>
                <a:ea typeface="华文琥珀"/>
              </a:rPr>
              <a:t>课题</a:t>
            </a:r>
            <a:r>
              <a:rPr b="1" lang="zh-CN" sz="4400" spc="-1" strike="noStrike">
                <a:solidFill>
                  <a:srgbClr val="000000"/>
                </a:solidFill>
                <a:latin typeface="华文琥珀"/>
                <a:ea typeface="华文琥珀"/>
              </a:rPr>
              <a:t>2 </a:t>
            </a:r>
            <a:r>
              <a:rPr b="1" lang="zh-CN" sz="4400" spc="-1" strike="noStrike">
                <a:solidFill>
                  <a:srgbClr val="000000"/>
                </a:solidFill>
                <a:latin typeface="华文琥珀"/>
                <a:ea typeface="华文琥珀"/>
              </a:rPr>
              <a:t>二氧化碳制取的研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820908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333160" y="272880"/>
            <a:ext cx="46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下列仪器可供设计制取二氧化碳的装置时选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你也可以另选或自制仪器，还可以利用代用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248520" y="5257800"/>
            <a:ext cx="1371600" cy="761760"/>
            <a:chOff x="6248520" y="5257800"/>
            <a:chExt cx="1371600" cy="761760"/>
          </a:xfrm>
        </p:grpSpPr>
        <p:sp>
          <p:nvSpPr>
            <p:cNvPr id="175" name=""/>
            <p:cNvSpPr/>
            <p:nvPr/>
          </p:nvSpPr>
          <p:spPr>
            <a:xfrm>
              <a:off x="6264720" y="5270040"/>
              <a:ext cx="1338480" cy="749520"/>
            </a:xfrm>
            <a:prstGeom prst="roundRect">
              <a:avLst>
                <a:gd name="adj" fmla="val 67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51840" y="5603400"/>
              <a:ext cx="33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15200" y="5603400"/>
              <a:ext cx="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98360" y="5603400"/>
              <a:ext cx="25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66400" y="5603400"/>
              <a:ext cx="124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13280" y="5603400"/>
              <a:ext cx="21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81360" y="5646960"/>
              <a:ext cx="48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92600" y="5646960"/>
              <a:ext cx="73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7240" y="5646960"/>
              <a:ext cx="33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90960" y="5646960"/>
              <a:ext cx="28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49680" y="569376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23480" y="5693760"/>
              <a:ext cx="57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26080" y="5693760"/>
              <a:ext cx="120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74400" y="569376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05400" y="5623200"/>
              <a:ext cx="35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84200" y="5599440"/>
              <a:ext cx="5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65400" y="5739480"/>
              <a:ext cx="33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24560" y="573948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15640" y="5739480"/>
              <a:ext cx="23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78640" y="5739480"/>
              <a:ext cx="35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11640" y="5610960"/>
              <a:ext cx="33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75000" y="5610960"/>
              <a:ext cx="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58160" y="5610960"/>
              <a:ext cx="25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26560" y="5610960"/>
              <a:ext cx="124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73080" y="5610960"/>
              <a:ext cx="20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41160" y="5653080"/>
              <a:ext cx="47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51680" y="5653080"/>
              <a:ext cx="74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87400" y="5653080"/>
              <a:ext cx="33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51120" y="5653080"/>
              <a:ext cx="28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09480" y="570024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83640" y="5700240"/>
              <a:ext cx="57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84800" y="5700240"/>
              <a:ext cx="121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34560" y="570024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94280" y="5905800"/>
              <a:ext cx="35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44000" y="5606640"/>
              <a:ext cx="5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24120" y="574668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84360" y="574668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75800" y="5746680"/>
              <a:ext cx="22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38440" y="574668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12600" y="577368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54880" y="5700240"/>
              <a:ext cx="52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39200" y="5760360"/>
              <a:ext cx="25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53600" y="5699160"/>
              <a:ext cx="124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23480" y="5778000"/>
              <a:ext cx="21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12680" y="5700240"/>
              <a:ext cx="48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96080" y="5757120"/>
              <a:ext cx="74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89600" y="5653080"/>
              <a:ext cx="27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51280" y="5608800"/>
              <a:ext cx="56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53360" y="5650200"/>
              <a:ext cx="121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24920" y="5751720"/>
              <a:ext cx="5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17040" y="576036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88760" y="5810040"/>
              <a:ext cx="33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52480" y="5810040"/>
              <a:ext cx="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35280" y="5810040"/>
              <a:ext cx="25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03680" y="5810040"/>
              <a:ext cx="124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50200" y="5810040"/>
              <a:ext cx="21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18280" y="5853960"/>
              <a:ext cx="47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28800" y="5853960"/>
              <a:ext cx="74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64520" y="5853960"/>
              <a:ext cx="34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28240" y="5853960"/>
              <a:ext cx="28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86960" y="590040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60760" y="5900400"/>
              <a:ext cx="56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62280" y="5900400"/>
              <a:ext cx="120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1680" y="590040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42320" y="582984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21480" y="5806080"/>
              <a:ext cx="5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01600" y="594720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61480" y="594720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52920" y="5947200"/>
              <a:ext cx="22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15560" y="594720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78120" y="5818680"/>
              <a:ext cx="34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42200" y="5818680"/>
              <a:ext cx="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25000" y="5818680"/>
              <a:ext cx="25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593400" y="5818680"/>
              <a:ext cx="124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39920" y="5818680"/>
              <a:ext cx="20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07640" y="5860800"/>
              <a:ext cx="47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18520" y="5860800"/>
              <a:ext cx="74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54240" y="5860800"/>
              <a:ext cx="33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17960" y="5860800"/>
              <a:ext cx="28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76680" y="590760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50120" y="5907600"/>
              <a:ext cx="57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51640" y="5907600"/>
              <a:ext cx="120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01400" y="590760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32400" y="5837040"/>
              <a:ext cx="35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11200" y="5814360"/>
              <a:ext cx="5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690960" y="595440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51200" y="595440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42640" y="5954400"/>
              <a:ext cx="23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605280" y="595440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9640" y="5957640"/>
              <a:ext cx="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958440" y="5820480"/>
              <a:ext cx="25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87520" y="5907600"/>
              <a:ext cx="124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06240" y="5859000"/>
              <a:ext cx="74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14760" y="5943240"/>
              <a:ext cx="34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20200" y="5959440"/>
              <a:ext cx="56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464240" y="5758200"/>
              <a:ext cx="120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76840" y="5901480"/>
              <a:ext cx="5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44520" y="5951520"/>
              <a:ext cx="23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265800" y="5541120"/>
              <a:ext cx="1337400" cy="22320"/>
              <a:chOff x="6265800" y="5541120"/>
              <a:chExt cx="1337400" cy="2232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6265800" y="5541120"/>
                <a:ext cx="1337400" cy="22320"/>
                <a:chOff x="6265800" y="5541120"/>
                <a:chExt cx="1337400" cy="223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293520" y="5560560"/>
                  <a:ext cx="1285200" cy="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570080" y="5541120"/>
                  <a:ext cx="33120" cy="2160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0" y="27"/>
                      </a:moveTo>
                      <a:cubicBezTo>
                        <a:pt x="8" y="26"/>
                        <a:pt x="17" y="25"/>
                        <a:pt x="24" y="21"/>
                      </a:cubicBezTo>
                      <a:cubicBezTo>
                        <a:pt x="31" y="17"/>
                        <a:pt x="38" y="8"/>
                        <a:pt x="45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265800" y="5543280"/>
                  <a:ext cx="45360" cy="20160"/>
                </a:xfrm>
                <a:custGeom>
                  <a:avLst/>
                  <a:gdLst/>
                  <a:ahLst/>
                  <a:rect l="l" t="t" r="r" b="b"/>
                  <a:pathLst>
                    <a:path w="62" h="25">
                      <a:moveTo>
                        <a:pt x="62" y="24"/>
                      </a:moveTo>
                      <a:cubicBezTo>
                        <a:pt x="56" y="23"/>
                        <a:pt x="31" y="25"/>
                        <a:pt x="21" y="21"/>
                      </a:cubicBezTo>
                      <a:cubicBezTo>
                        <a:pt x="11" y="17"/>
                        <a:pt x="7" y="8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"/>
              <p:cNvSpPr/>
              <p:nvPr/>
            </p:nvSpPr>
            <p:spPr>
              <a:xfrm>
                <a:off x="7570080" y="5541120"/>
                <a:ext cx="33120" cy="21600"/>
              </a:xfrm>
              <a:custGeom>
                <a:avLst/>
                <a:gdLst/>
                <a:ahLst/>
                <a:rect l="l" t="t" r="r" b="b"/>
                <a:pathLst>
                  <a:path w="45" h="27">
                    <a:moveTo>
                      <a:pt x="0" y="27"/>
                    </a:moveTo>
                    <a:cubicBezTo>
                      <a:pt x="8" y="26"/>
                      <a:pt x="17" y="25"/>
                      <a:pt x="24" y="21"/>
                    </a:cubicBezTo>
                    <a:cubicBezTo>
                      <a:pt x="31" y="17"/>
                      <a:pt x="38" y="8"/>
                      <a:pt x="4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6248520" y="5257800"/>
              <a:ext cx="1371600" cy="56160"/>
            </a:xfrm>
            <a:prstGeom prst="roundRect">
              <a:avLst>
                <a:gd name="adj" fmla="val 329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0" name=""/>
          <p:cNvGraphicFramePr/>
          <p:nvPr/>
        </p:nvGraphicFramePr>
        <p:xfrm>
          <a:off x="6172200" y="1447920"/>
          <a:ext cx="56844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447920"/>
                    <a:ext cx="56844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4876920" y="1447920"/>
            <a:ext cx="788760" cy="1628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3429000" y="1752480"/>
            <a:ext cx="1008000" cy="10382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2286000" y="1600200"/>
            <a:ext cx="914400" cy="10954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1204920" y="1828800"/>
            <a:ext cx="814320" cy="9716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7"/>
          <a:stretch/>
        </p:blipFill>
        <p:spPr>
          <a:xfrm>
            <a:off x="1371600" y="3124080"/>
            <a:ext cx="642960" cy="17528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8"/>
          <a:stretch/>
        </p:blipFill>
        <p:spPr>
          <a:xfrm>
            <a:off x="2286000" y="3200400"/>
            <a:ext cx="1081080" cy="1447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9"/>
          <a:stretch/>
        </p:blipFill>
        <p:spPr>
          <a:xfrm>
            <a:off x="3581280" y="3276720"/>
            <a:ext cx="70668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4419720" y="3276720"/>
          <a:ext cx="685800" cy="1685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419720" y="3276720"/>
                    <a:ext cx="68580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/>
          <p:cNvPicPr/>
          <p:nvPr/>
        </p:nvPicPr>
        <p:blipFill>
          <a:blip r:embed="rId12"/>
          <a:stretch/>
        </p:blipFill>
        <p:spPr>
          <a:xfrm>
            <a:off x="5486400" y="3276720"/>
            <a:ext cx="1066680" cy="9046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3"/>
          <a:stretch/>
        </p:blipFill>
        <p:spPr>
          <a:xfrm>
            <a:off x="7162920" y="1719360"/>
            <a:ext cx="1457280" cy="12524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4"/>
          <a:stretch/>
        </p:blipFill>
        <p:spPr>
          <a:xfrm>
            <a:off x="1371600" y="5181480"/>
            <a:ext cx="1371600" cy="118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"/>
          <p:cNvGraphicFramePr/>
          <p:nvPr/>
        </p:nvGraphicFramePr>
        <p:xfrm>
          <a:off x="7162920" y="3581280"/>
          <a:ext cx="809640" cy="990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2920" y="3581280"/>
                    <a:ext cx="8096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838080" y="15228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以下是设计的部份装置可供参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31840" y="77616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、气体发生装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95320" cy="17715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973080" cy="16048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3124080" y="1523880"/>
            <a:ext cx="1144800" cy="165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1905120" y="1523880"/>
          <a:ext cx="839520" cy="165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1523880"/>
                    <a:ext cx="83952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6019920" y="1600200"/>
          <a:ext cx="1322280" cy="160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1600200"/>
                    <a:ext cx="13222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5" name="" descr=""/>
          <p:cNvPicPr/>
          <p:nvPr/>
        </p:nvPicPr>
        <p:blipFill>
          <a:blip r:embed="rId8"/>
          <a:stretch/>
        </p:blipFill>
        <p:spPr>
          <a:xfrm>
            <a:off x="7696080" y="1447920"/>
            <a:ext cx="776520" cy="172404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7711920" y="3844800"/>
            <a:ext cx="1141560" cy="1433520"/>
            <a:chOff x="7711920" y="3844800"/>
            <a:chExt cx="1141560" cy="1433520"/>
          </a:xfrm>
        </p:grpSpPr>
        <p:grpSp>
          <p:nvGrpSpPr>
            <p:cNvPr id="307" name=""/>
            <p:cNvGrpSpPr/>
            <p:nvPr/>
          </p:nvGrpSpPr>
          <p:grpSpPr>
            <a:xfrm>
              <a:off x="8238960" y="4424400"/>
              <a:ext cx="614520" cy="218880"/>
              <a:chOff x="8238960" y="4424400"/>
              <a:chExt cx="614520" cy="218880"/>
            </a:xfrm>
          </p:grpSpPr>
          <p:sp>
            <p:nvSpPr>
              <p:cNvPr id="308" name=""/>
              <p:cNvSpPr/>
              <p:nvPr/>
            </p:nvSpPr>
            <p:spPr>
              <a:xfrm>
                <a:off x="8519760" y="4520160"/>
                <a:ext cx="5904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8238960" y="4446720"/>
                <a:ext cx="27072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238960" y="4613400"/>
                <a:ext cx="147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8253720" y="4475520"/>
                <a:ext cx="272160" cy="1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506440" y="4424400"/>
                <a:ext cx="343800" cy="24120"/>
              </a:xfrm>
              <a:custGeom>
                <a:avLst/>
                <a:gdLst/>
                <a:ahLst/>
                <a:rect l="l" t="t" r="r" b="b"/>
                <a:pathLst>
                  <a:path w="621" h="41">
                    <a:moveTo>
                      <a:pt x="0" y="41"/>
                    </a:moveTo>
                    <a:cubicBezTo>
                      <a:pt x="60" y="12"/>
                      <a:pt x="48" y="12"/>
                      <a:pt x="117" y="0"/>
                    </a:cubicBezTo>
                    <a:lnTo>
                      <a:pt x="62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509680" y="4459680"/>
                <a:ext cx="343800" cy="24120"/>
              </a:xfrm>
              <a:custGeom>
                <a:avLst/>
                <a:gdLst/>
                <a:ahLst/>
                <a:rect l="l" t="t" r="r" b="b"/>
                <a:pathLst>
                  <a:path w="621" h="41">
                    <a:moveTo>
                      <a:pt x="0" y="41"/>
                    </a:moveTo>
                    <a:cubicBezTo>
                      <a:pt x="60" y="12"/>
                      <a:pt x="48" y="12"/>
                      <a:pt x="117" y="0"/>
                    </a:cubicBezTo>
                    <a:lnTo>
                      <a:pt x="62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8253720" y="4487040"/>
              <a:ext cx="156600" cy="182880"/>
              <a:chOff x="8253720" y="4487040"/>
              <a:chExt cx="156600" cy="182880"/>
            </a:xfrm>
          </p:grpSpPr>
          <p:sp>
            <p:nvSpPr>
              <p:cNvPr id="315" name=""/>
              <p:cNvSpPr/>
              <p:nvPr/>
            </p:nvSpPr>
            <p:spPr>
              <a:xfrm rot="3747000">
                <a:off x="8256600" y="4574520"/>
                <a:ext cx="129960" cy="12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3747000">
                <a:off x="8253720" y="4530600"/>
                <a:ext cx="156600" cy="95040"/>
              </a:xfrm>
              <a:custGeom>
                <a:avLst/>
                <a:gdLst>
                  <a:gd name="textAreaLeft" fmla="*/ 27000 w 156600"/>
                  <a:gd name="textAreaRight" fmla="*/ 129600 w 156600"/>
                  <a:gd name="textAreaTop" fmla="*/ 16560 h 95040"/>
                  <a:gd name="textAreaBottom" fmla="*/ 78480 h 95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978" y="21600"/>
                    </a:lnTo>
                    <a:lnTo>
                      <a:pt x="3622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rot="3746400">
                <a:off x="8265600" y="4570560"/>
                <a:ext cx="136080" cy="100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7711920" y="4887720"/>
              <a:ext cx="190440" cy="218160"/>
              <a:chOff x="7711920" y="4887720"/>
              <a:chExt cx="190440" cy="218160"/>
            </a:xfrm>
          </p:grpSpPr>
          <p:sp>
            <p:nvSpPr>
              <p:cNvPr id="319" name=""/>
              <p:cNvSpPr/>
              <p:nvPr/>
            </p:nvSpPr>
            <p:spPr>
              <a:xfrm>
                <a:off x="7769880" y="5061960"/>
                <a:ext cx="45000" cy="4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765200" y="4973040"/>
                <a:ext cx="99720" cy="8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864920" y="4977720"/>
                <a:ext cx="37440" cy="6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7765200" y="4995360"/>
                <a:ext cx="4320" cy="6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flipV="1">
                <a:off x="7803000" y="4964400"/>
                <a:ext cx="6192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7765200" y="4968720"/>
                <a:ext cx="82800" cy="7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7773480" y="4966920"/>
                <a:ext cx="38160" cy="3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711920" y="4887720"/>
                <a:ext cx="95040" cy="110160"/>
              </a:xfrm>
              <a:custGeom>
                <a:avLst/>
                <a:gdLst/>
                <a:ahLst/>
                <a:rect l="l" t="t" r="r" b="b"/>
                <a:pathLst>
                  <a:path w="172" h="187">
                    <a:moveTo>
                      <a:pt x="103" y="186"/>
                    </a:moveTo>
                    <a:cubicBezTo>
                      <a:pt x="112" y="185"/>
                      <a:pt x="103" y="176"/>
                      <a:pt x="103" y="168"/>
                    </a:cubicBezTo>
                    <a:cubicBezTo>
                      <a:pt x="103" y="160"/>
                      <a:pt x="97" y="147"/>
                      <a:pt x="100" y="138"/>
                    </a:cubicBezTo>
                    <a:cubicBezTo>
                      <a:pt x="103" y="129"/>
                      <a:pt x="113" y="117"/>
                      <a:pt x="121" y="114"/>
                    </a:cubicBezTo>
                    <a:cubicBezTo>
                      <a:pt x="129" y="111"/>
                      <a:pt x="143" y="115"/>
                      <a:pt x="151" y="117"/>
                    </a:cubicBezTo>
                    <a:cubicBezTo>
                      <a:pt x="159" y="119"/>
                      <a:pt x="166" y="132"/>
                      <a:pt x="169" y="126"/>
                    </a:cubicBezTo>
                    <a:cubicBezTo>
                      <a:pt x="172" y="120"/>
                      <a:pt x="170" y="93"/>
                      <a:pt x="169" y="81"/>
                    </a:cubicBezTo>
                    <a:cubicBezTo>
                      <a:pt x="168" y="69"/>
                      <a:pt x="167" y="62"/>
                      <a:pt x="160" y="51"/>
                    </a:cubicBezTo>
                    <a:cubicBezTo>
                      <a:pt x="153" y="40"/>
                      <a:pt x="139" y="23"/>
                      <a:pt x="124" y="15"/>
                    </a:cubicBezTo>
                    <a:cubicBezTo>
                      <a:pt x="109" y="7"/>
                      <a:pt x="84" y="0"/>
                      <a:pt x="67" y="3"/>
                    </a:cubicBezTo>
                    <a:cubicBezTo>
                      <a:pt x="50" y="6"/>
                      <a:pt x="30" y="19"/>
                      <a:pt x="19" y="33"/>
                    </a:cubicBezTo>
                    <a:cubicBezTo>
                      <a:pt x="8" y="47"/>
                      <a:pt x="2" y="70"/>
                      <a:pt x="1" y="87"/>
                    </a:cubicBezTo>
                    <a:cubicBezTo>
                      <a:pt x="0" y="104"/>
                      <a:pt x="2" y="124"/>
                      <a:pt x="10" y="138"/>
                    </a:cubicBezTo>
                    <a:cubicBezTo>
                      <a:pt x="18" y="152"/>
                      <a:pt x="35" y="165"/>
                      <a:pt x="49" y="171"/>
                    </a:cubicBezTo>
                    <a:cubicBezTo>
                      <a:pt x="63" y="177"/>
                      <a:pt x="94" y="187"/>
                      <a:pt x="103" y="18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8014680" y="3844800"/>
              <a:ext cx="151920" cy="205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896240" y="3863880"/>
              <a:ext cx="140040" cy="530280"/>
            </a:xfrm>
            <a:custGeom>
              <a:avLst/>
              <a:gdLst/>
              <a:ahLst/>
              <a:rect l="l" t="t" r="r" b="b"/>
              <a:pathLst>
                <a:path w="253" h="900">
                  <a:moveTo>
                    <a:pt x="220" y="0"/>
                  </a:moveTo>
                  <a:cubicBezTo>
                    <a:pt x="236" y="76"/>
                    <a:pt x="252" y="152"/>
                    <a:pt x="250" y="192"/>
                  </a:cubicBezTo>
                  <a:cubicBezTo>
                    <a:pt x="248" y="232"/>
                    <a:pt x="226" y="224"/>
                    <a:pt x="205" y="240"/>
                  </a:cubicBezTo>
                  <a:cubicBezTo>
                    <a:pt x="184" y="256"/>
                    <a:pt x="152" y="266"/>
                    <a:pt x="124" y="291"/>
                  </a:cubicBezTo>
                  <a:cubicBezTo>
                    <a:pt x="96" y="316"/>
                    <a:pt x="61" y="349"/>
                    <a:pt x="40" y="393"/>
                  </a:cubicBezTo>
                  <a:cubicBezTo>
                    <a:pt x="19" y="437"/>
                    <a:pt x="2" y="508"/>
                    <a:pt x="1" y="555"/>
                  </a:cubicBezTo>
                  <a:cubicBezTo>
                    <a:pt x="0" y="602"/>
                    <a:pt x="15" y="639"/>
                    <a:pt x="31" y="678"/>
                  </a:cubicBezTo>
                  <a:cubicBezTo>
                    <a:pt x="47" y="717"/>
                    <a:pt x="72" y="760"/>
                    <a:pt x="100" y="789"/>
                  </a:cubicBezTo>
                  <a:cubicBezTo>
                    <a:pt x="128" y="818"/>
                    <a:pt x="176" y="841"/>
                    <a:pt x="199" y="855"/>
                  </a:cubicBezTo>
                  <a:cubicBezTo>
                    <a:pt x="222" y="869"/>
                    <a:pt x="226" y="866"/>
                    <a:pt x="235" y="873"/>
                  </a:cubicBezTo>
                  <a:cubicBezTo>
                    <a:pt x="244" y="880"/>
                    <a:pt x="250" y="896"/>
                    <a:pt x="253" y="9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029440" y="4395960"/>
              <a:ext cx="10800" cy="42480"/>
            </a:xfrm>
            <a:custGeom>
              <a:avLst/>
              <a:gdLst/>
              <a:ahLst/>
              <a:rect l="l" t="t" r="r" b="b"/>
              <a:pathLst>
                <a:path w="20" h="72">
                  <a:moveTo>
                    <a:pt x="12" y="0"/>
                  </a:moveTo>
                  <a:cubicBezTo>
                    <a:pt x="16" y="16"/>
                    <a:pt x="20" y="33"/>
                    <a:pt x="18" y="45"/>
                  </a:cubicBezTo>
                  <a:cubicBezTo>
                    <a:pt x="16" y="57"/>
                    <a:pt x="8" y="64"/>
                    <a:pt x="0" y="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135280" y="3867480"/>
              <a:ext cx="142200" cy="568800"/>
            </a:xfrm>
            <a:custGeom>
              <a:avLst/>
              <a:gdLst/>
              <a:ahLst/>
              <a:rect l="l" t="t" r="r" b="b"/>
              <a:pathLst>
                <a:path w="257" h="966">
                  <a:moveTo>
                    <a:pt x="13" y="966"/>
                  </a:moveTo>
                  <a:cubicBezTo>
                    <a:pt x="7" y="956"/>
                    <a:pt x="2" y="946"/>
                    <a:pt x="1" y="933"/>
                  </a:cubicBezTo>
                  <a:cubicBezTo>
                    <a:pt x="0" y="920"/>
                    <a:pt x="2" y="901"/>
                    <a:pt x="10" y="888"/>
                  </a:cubicBezTo>
                  <a:cubicBezTo>
                    <a:pt x="18" y="875"/>
                    <a:pt x="37" y="862"/>
                    <a:pt x="52" y="852"/>
                  </a:cubicBezTo>
                  <a:cubicBezTo>
                    <a:pt x="67" y="842"/>
                    <a:pt x="85" y="841"/>
                    <a:pt x="103" y="828"/>
                  </a:cubicBezTo>
                  <a:cubicBezTo>
                    <a:pt x="121" y="815"/>
                    <a:pt x="142" y="800"/>
                    <a:pt x="163" y="774"/>
                  </a:cubicBezTo>
                  <a:cubicBezTo>
                    <a:pt x="184" y="748"/>
                    <a:pt x="217" y="711"/>
                    <a:pt x="232" y="672"/>
                  </a:cubicBezTo>
                  <a:cubicBezTo>
                    <a:pt x="247" y="633"/>
                    <a:pt x="257" y="584"/>
                    <a:pt x="256" y="540"/>
                  </a:cubicBezTo>
                  <a:cubicBezTo>
                    <a:pt x="255" y="496"/>
                    <a:pt x="242" y="447"/>
                    <a:pt x="226" y="408"/>
                  </a:cubicBezTo>
                  <a:cubicBezTo>
                    <a:pt x="210" y="369"/>
                    <a:pt x="188" y="336"/>
                    <a:pt x="157" y="306"/>
                  </a:cubicBezTo>
                  <a:cubicBezTo>
                    <a:pt x="126" y="276"/>
                    <a:pt x="66" y="243"/>
                    <a:pt x="43" y="228"/>
                  </a:cubicBezTo>
                  <a:cubicBezTo>
                    <a:pt x="20" y="213"/>
                    <a:pt x="24" y="219"/>
                    <a:pt x="19" y="213"/>
                  </a:cubicBezTo>
                  <a:cubicBezTo>
                    <a:pt x="14" y="207"/>
                    <a:pt x="17" y="199"/>
                    <a:pt x="16" y="192"/>
                  </a:cubicBezTo>
                  <a:cubicBezTo>
                    <a:pt x="15" y="185"/>
                    <a:pt x="10" y="203"/>
                    <a:pt x="13" y="171"/>
                  </a:cubicBezTo>
                  <a:cubicBezTo>
                    <a:pt x="16" y="139"/>
                    <a:pt x="26" y="69"/>
                    <a:pt x="3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49600" y="3991320"/>
              <a:ext cx="76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57880" y="4376880"/>
              <a:ext cx="57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756920" y="5278320"/>
              <a:ext cx="66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48960" y="4633200"/>
              <a:ext cx="292320" cy="643320"/>
            </a:xfrm>
            <a:custGeom>
              <a:avLst/>
              <a:gdLst/>
              <a:ahLst/>
              <a:rect l="l" t="t" r="r" b="b"/>
              <a:pathLst>
                <a:path w="528" h="1092">
                  <a:moveTo>
                    <a:pt x="492" y="1092"/>
                  </a:moveTo>
                  <a:cubicBezTo>
                    <a:pt x="496" y="1080"/>
                    <a:pt x="528" y="1059"/>
                    <a:pt x="519" y="1020"/>
                  </a:cubicBezTo>
                  <a:cubicBezTo>
                    <a:pt x="510" y="981"/>
                    <a:pt x="503" y="919"/>
                    <a:pt x="438" y="855"/>
                  </a:cubicBezTo>
                  <a:cubicBezTo>
                    <a:pt x="371" y="789"/>
                    <a:pt x="351" y="753"/>
                    <a:pt x="126" y="633"/>
                  </a:cubicBezTo>
                  <a:cubicBezTo>
                    <a:pt x="53" y="579"/>
                    <a:pt x="9" y="576"/>
                    <a:pt x="0" y="534"/>
                  </a:cubicBezTo>
                  <a:cubicBezTo>
                    <a:pt x="57" y="507"/>
                    <a:pt x="147" y="465"/>
                    <a:pt x="207" y="306"/>
                  </a:cubicBezTo>
                  <a:cubicBezTo>
                    <a:pt x="225" y="273"/>
                    <a:pt x="231" y="150"/>
                    <a:pt x="222" y="83"/>
                  </a:cubicBezTo>
                  <a:cubicBezTo>
                    <a:pt x="267" y="48"/>
                    <a:pt x="364" y="17"/>
                    <a:pt x="40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34960" y="4440240"/>
              <a:ext cx="635040" cy="837720"/>
            </a:xfrm>
            <a:custGeom>
              <a:avLst/>
              <a:gdLst/>
              <a:ahLst/>
              <a:rect l="l" t="t" r="r" b="b"/>
              <a:pathLst>
                <a:path w="1147" h="1422">
                  <a:moveTo>
                    <a:pt x="40" y="1422"/>
                  </a:moveTo>
                  <a:cubicBezTo>
                    <a:pt x="25" y="1413"/>
                    <a:pt x="0" y="1345"/>
                    <a:pt x="40" y="1280"/>
                  </a:cubicBezTo>
                  <a:cubicBezTo>
                    <a:pt x="94" y="1143"/>
                    <a:pt x="213" y="1091"/>
                    <a:pt x="280" y="1032"/>
                  </a:cubicBezTo>
                  <a:cubicBezTo>
                    <a:pt x="415" y="957"/>
                    <a:pt x="417" y="957"/>
                    <a:pt x="451" y="924"/>
                  </a:cubicBezTo>
                  <a:cubicBezTo>
                    <a:pt x="486" y="896"/>
                    <a:pt x="530" y="878"/>
                    <a:pt x="535" y="860"/>
                  </a:cubicBezTo>
                  <a:cubicBezTo>
                    <a:pt x="539" y="844"/>
                    <a:pt x="503" y="850"/>
                    <a:pt x="475" y="828"/>
                  </a:cubicBezTo>
                  <a:cubicBezTo>
                    <a:pt x="447" y="806"/>
                    <a:pt x="396" y="767"/>
                    <a:pt x="367" y="729"/>
                  </a:cubicBezTo>
                  <a:cubicBezTo>
                    <a:pt x="338" y="691"/>
                    <a:pt x="316" y="644"/>
                    <a:pt x="304" y="597"/>
                  </a:cubicBezTo>
                  <a:cubicBezTo>
                    <a:pt x="292" y="550"/>
                    <a:pt x="290" y="497"/>
                    <a:pt x="298" y="447"/>
                  </a:cubicBezTo>
                  <a:cubicBezTo>
                    <a:pt x="306" y="397"/>
                    <a:pt x="319" y="341"/>
                    <a:pt x="355" y="294"/>
                  </a:cubicBezTo>
                  <a:cubicBezTo>
                    <a:pt x="391" y="247"/>
                    <a:pt x="436" y="192"/>
                    <a:pt x="517" y="165"/>
                  </a:cubicBezTo>
                  <a:cubicBezTo>
                    <a:pt x="543" y="118"/>
                    <a:pt x="497" y="48"/>
                    <a:pt x="505" y="3"/>
                  </a:cubicBezTo>
                  <a:cubicBezTo>
                    <a:pt x="569" y="6"/>
                    <a:pt x="775" y="0"/>
                    <a:pt x="775" y="0"/>
                  </a:cubicBezTo>
                  <a:cubicBezTo>
                    <a:pt x="754" y="102"/>
                    <a:pt x="740" y="114"/>
                    <a:pt x="757" y="153"/>
                  </a:cubicBezTo>
                  <a:cubicBezTo>
                    <a:pt x="774" y="192"/>
                    <a:pt x="838" y="198"/>
                    <a:pt x="880" y="237"/>
                  </a:cubicBezTo>
                  <a:cubicBezTo>
                    <a:pt x="922" y="219"/>
                    <a:pt x="1003" y="144"/>
                    <a:pt x="1038" y="117"/>
                  </a:cubicBezTo>
                  <a:cubicBezTo>
                    <a:pt x="1066" y="162"/>
                    <a:pt x="1124" y="285"/>
                    <a:pt x="1147" y="3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016120" y="446328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037720" y="4466880"/>
              <a:ext cx="1476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052840" y="52588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124120" y="4462920"/>
              <a:ext cx="11520" cy="79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7771320" y="5006520"/>
              <a:ext cx="645840" cy="247680"/>
              <a:chOff x="7771320" y="5006520"/>
              <a:chExt cx="645840" cy="247680"/>
            </a:xfrm>
          </p:grpSpPr>
          <p:sp>
            <p:nvSpPr>
              <p:cNvPr id="341" name=""/>
              <p:cNvSpPr/>
              <p:nvPr/>
            </p:nvSpPr>
            <p:spPr>
              <a:xfrm flipH="1">
                <a:off x="8046720" y="524952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7965360" y="5249520"/>
                <a:ext cx="47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7824240" y="5249520"/>
                <a:ext cx="1026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7771320" y="524952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7992000" y="5216400"/>
                <a:ext cx="47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7903800" y="521352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7835760" y="5216400"/>
                <a:ext cx="19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7920720" y="5121720"/>
                <a:ext cx="19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7786080" y="519012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7952040" y="517644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7877520" y="5189040"/>
                <a:ext cx="47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7850880" y="5168160"/>
                <a:ext cx="41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8347320" y="517320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8265960" y="5173200"/>
                <a:ext cx="47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8124840" y="5173200"/>
                <a:ext cx="1026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8071560" y="517320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8292600" y="5205960"/>
                <a:ext cx="47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8204760" y="520884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8065080" y="5204160"/>
                <a:ext cx="464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8252640" y="524664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8151480" y="5254200"/>
                <a:ext cx="41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8297640" y="524304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8397360" y="5241960"/>
                <a:ext cx="19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8359200" y="520308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7958880" y="5078160"/>
                <a:ext cx="19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7972560" y="5124600"/>
                <a:ext cx="44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8098200" y="505152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7905600" y="5150160"/>
                <a:ext cx="41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8199720" y="507456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8267760" y="510768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8281080" y="5132160"/>
                <a:ext cx="47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8321040" y="515484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8011800" y="518112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8091720" y="500940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7973640" y="505944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8149680" y="5048280"/>
                <a:ext cx="19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8103240" y="507348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8068320" y="5095440"/>
                <a:ext cx="47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8065080" y="511992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8078400" y="513720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7890840" y="508860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7827840" y="5132160"/>
                <a:ext cx="44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7802640" y="516816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7980480" y="5100120"/>
                <a:ext cx="41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8148240" y="5105880"/>
                <a:ext cx="2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8157960" y="520596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8166240" y="513576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8221320" y="5153040"/>
                <a:ext cx="47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8216280" y="510948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8020080" y="5049720"/>
                <a:ext cx="47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7978680" y="5025240"/>
                <a:ext cx="41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7923960" y="505944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8015400" y="5006520"/>
                <a:ext cx="19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8164800" y="502164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8197920" y="5046840"/>
                <a:ext cx="47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8120880" y="5036400"/>
                <a:ext cx="1440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906680" y="4783320"/>
              <a:ext cx="363960" cy="215640"/>
              <a:chOff x="7906680" y="4783320"/>
              <a:chExt cx="363960" cy="215640"/>
            </a:xfrm>
          </p:grpSpPr>
          <p:sp>
            <p:nvSpPr>
              <p:cNvPr id="398" name=""/>
              <p:cNvSpPr/>
              <p:nvPr/>
            </p:nvSpPr>
            <p:spPr>
              <a:xfrm flipH="1">
                <a:off x="8114760" y="4998960"/>
                <a:ext cx="41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8011800" y="4986720"/>
                <a:ext cx="21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8008920" y="4859280"/>
                <a:ext cx="165240" cy="107280"/>
                <a:chOff x="8008920" y="4859280"/>
                <a:chExt cx="165240" cy="1072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8043480" y="4922280"/>
                  <a:ext cx="36000" cy="3564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8052480" y="4880520"/>
                  <a:ext cx="31320" cy="39240"/>
                </a:xfrm>
                <a:custGeom>
                  <a:avLst/>
                  <a:gdLst/>
                  <a:ahLst/>
                  <a:rect l="l" t="t" r="r" b="b"/>
                  <a:pathLst>
                    <a:path w="57" h="67">
                      <a:moveTo>
                        <a:pt x="33" y="67"/>
                      </a:moveTo>
                      <a:cubicBezTo>
                        <a:pt x="45" y="64"/>
                        <a:pt x="57" y="62"/>
                        <a:pt x="57" y="52"/>
                      </a:cubicBezTo>
                      <a:cubicBezTo>
                        <a:pt x="57" y="42"/>
                        <a:pt x="39" y="8"/>
                        <a:pt x="30" y="4"/>
                      </a:cubicBezTo>
                      <a:cubicBezTo>
                        <a:pt x="21" y="0"/>
                        <a:pt x="6" y="18"/>
                        <a:pt x="3" y="28"/>
                      </a:cubicBezTo>
                      <a:cubicBezTo>
                        <a:pt x="0" y="38"/>
                        <a:pt x="7" y="51"/>
                        <a:pt x="15" y="64"/>
                      </a:cubicBezTo>
                      <a:cubicBezTo>
                        <a:pt x="15" y="64"/>
                        <a:pt x="33" y="67"/>
                        <a:pt x="33" y="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4949400">
                  <a:off x="8051400" y="4865760"/>
                  <a:ext cx="33480" cy="36720"/>
                </a:xfrm>
                <a:custGeom>
                  <a:avLst/>
                  <a:gdLst/>
                  <a:ahLst/>
                  <a:rect l="l" t="t" r="r" b="b"/>
                  <a:pathLst>
                    <a:path w="57" h="67">
                      <a:moveTo>
                        <a:pt x="33" y="67"/>
                      </a:moveTo>
                      <a:cubicBezTo>
                        <a:pt x="45" y="64"/>
                        <a:pt x="57" y="62"/>
                        <a:pt x="57" y="52"/>
                      </a:cubicBezTo>
                      <a:cubicBezTo>
                        <a:pt x="57" y="42"/>
                        <a:pt x="39" y="8"/>
                        <a:pt x="30" y="4"/>
                      </a:cubicBezTo>
                      <a:cubicBezTo>
                        <a:pt x="21" y="0"/>
                        <a:pt x="6" y="18"/>
                        <a:pt x="3" y="28"/>
                      </a:cubicBezTo>
                      <a:cubicBezTo>
                        <a:pt x="0" y="38"/>
                        <a:pt x="7" y="51"/>
                        <a:pt x="15" y="64"/>
                      </a:cubicBezTo>
                      <a:cubicBezTo>
                        <a:pt x="15" y="64"/>
                        <a:pt x="33" y="67"/>
                        <a:pt x="33" y="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rot="16087200">
                  <a:off x="8106120" y="4905720"/>
                  <a:ext cx="33480" cy="37080"/>
                </a:xfrm>
                <a:custGeom>
                  <a:avLst/>
                  <a:gdLst/>
                  <a:ahLst/>
                  <a:rect l="l" t="t" r="r" b="b"/>
                  <a:pathLst>
                    <a:path w="57" h="67">
                      <a:moveTo>
                        <a:pt x="33" y="67"/>
                      </a:moveTo>
                      <a:cubicBezTo>
                        <a:pt x="45" y="64"/>
                        <a:pt x="57" y="62"/>
                        <a:pt x="57" y="52"/>
                      </a:cubicBezTo>
                      <a:cubicBezTo>
                        <a:pt x="57" y="42"/>
                        <a:pt x="39" y="8"/>
                        <a:pt x="30" y="4"/>
                      </a:cubicBezTo>
                      <a:cubicBezTo>
                        <a:pt x="21" y="0"/>
                        <a:pt x="6" y="18"/>
                        <a:pt x="3" y="28"/>
                      </a:cubicBezTo>
                      <a:cubicBezTo>
                        <a:pt x="0" y="38"/>
                        <a:pt x="7" y="51"/>
                        <a:pt x="15" y="64"/>
                      </a:cubicBezTo>
                      <a:cubicBezTo>
                        <a:pt x="15" y="64"/>
                        <a:pt x="33" y="67"/>
                        <a:pt x="33" y="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8123760" y="4859280"/>
                  <a:ext cx="31320" cy="39240"/>
                </a:xfrm>
                <a:custGeom>
                  <a:avLst/>
                  <a:gdLst/>
                  <a:ahLst/>
                  <a:rect l="l" t="t" r="r" b="b"/>
                  <a:pathLst>
                    <a:path w="57" h="67">
                      <a:moveTo>
                        <a:pt x="33" y="67"/>
                      </a:moveTo>
                      <a:cubicBezTo>
                        <a:pt x="45" y="64"/>
                        <a:pt x="57" y="62"/>
                        <a:pt x="57" y="52"/>
                      </a:cubicBezTo>
                      <a:cubicBezTo>
                        <a:pt x="57" y="42"/>
                        <a:pt x="39" y="8"/>
                        <a:pt x="30" y="4"/>
                      </a:cubicBezTo>
                      <a:cubicBezTo>
                        <a:pt x="21" y="0"/>
                        <a:pt x="6" y="18"/>
                        <a:pt x="3" y="28"/>
                      </a:cubicBezTo>
                      <a:cubicBezTo>
                        <a:pt x="0" y="38"/>
                        <a:pt x="7" y="51"/>
                        <a:pt x="15" y="64"/>
                      </a:cubicBezTo>
                      <a:cubicBezTo>
                        <a:pt x="15" y="64"/>
                        <a:pt x="33" y="67"/>
                        <a:pt x="33" y="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094960" y="4865760"/>
                  <a:ext cx="36000" cy="3564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033760" y="4862160"/>
                  <a:ext cx="36000" cy="3564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8138160" y="4895640"/>
                  <a:ext cx="36000" cy="3564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115120" y="4915080"/>
                  <a:ext cx="36000" cy="3564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4949400">
                  <a:off x="8033040" y="4916880"/>
                  <a:ext cx="33480" cy="37080"/>
                </a:xfrm>
                <a:custGeom>
                  <a:avLst/>
                  <a:gdLst/>
                  <a:ahLst/>
                  <a:rect l="l" t="t" r="r" b="b"/>
                  <a:pathLst>
                    <a:path w="57" h="67">
                      <a:moveTo>
                        <a:pt x="33" y="67"/>
                      </a:moveTo>
                      <a:cubicBezTo>
                        <a:pt x="45" y="64"/>
                        <a:pt x="57" y="62"/>
                        <a:pt x="57" y="52"/>
                      </a:cubicBezTo>
                      <a:cubicBezTo>
                        <a:pt x="57" y="42"/>
                        <a:pt x="39" y="8"/>
                        <a:pt x="30" y="4"/>
                      </a:cubicBezTo>
                      <a:cubicBezTo>
                        <a:pt x="21" y="0"/>
                        <a:pt x="6" y="18"/>
                        <a:pt x="3" y="28"/>
                      </a:cubicBezTo>
                      <a:cubicBezTo>
                        <a:pt x="0" y="38"/>
                        <a:pt x="7" y="51"/>
                        <a:pt x="15" y="64"/>
                      </a:cubicBezTo>
                      <a:cubicBezTo>
                        <a:pt x="15" y="64"/>
                        <a:pt x="33" y="67"/>
                        <a:pt x="33" y="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4949400">
                  <a:off x="8054640" y="4887000"/>
                  <a:ext cx="33480" cy="37080"/>
                </a:xfrm>
                <a:custGeom>
                  <a:avLst/>
                  <a:gdLst/>
                  <a:ahLst/>
                  <a:rect l="l" t="t" r="r" b="b"/>
                  <a:pathLst>
                    <a:path w="57" h="67">
                      <a:moveTo>
                        <a:pt x="33" y="67"/>
                      </a:moveTo>
                      <a:cubicBezTo>
                        <a:pt x="45" y="64"/>
                        <a:pt x="57" y="62"/>
                        <a:pt x="57" y="52"/>
                      </a:cubicBezTo>
                      <a:cubicBezTo>
                        <a:pt x="57" y="42"/>
                        <a:pt x="39" y="8"/>
                        <a:pt x="30" y="4"/>
                      </a:cubicBezTo>
                      <a:cubicBezTo>
                        <a:pt x="21" y="0"/>
                        <a:pt x="6" y="18"/>
                        <a:pt x="3" y="28"/>
                      </a:cubicBezTo>
                      <a:cubicBezTo>
                        <a:pt x="0" y="38"/>
                        <a:pt x="7" y="51"/>
                        <a:pt x="15" y="64"/>
                      </a:cubicBezTo>
                      <a:cubicBezTo>
                        <a:pt x="15" y="64"/>
                        <a:pt x="33" y="67"/>
                        <a:pt x="33" y="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rot="4949400">
                  <a:off x="8059680" y="4904640"/>
                  <a:ext cx="33480" cy="36720"/>
                </a:xfrm>
                <a:custGeom>
                  <a:avLst/>
                  <a:gdLst/>
                  <a:ahLst/>
                  <a:rect l="l" t="t" r="r" b="b"/>
                  <a:pathLst>
                    <a:path w="57" h="67">
                      <a:moveTo>
                        <a:pt x="33" y="67"/>
                      </a:moveTo>
                      <a:cubicBezTo>
                        <a:pt x="45" y="64"/>
                        <a:pt x="57" y="62"/>
                        <a:pt x="57" y="52"/>
                      </a:cubicBezTo>
                      <a:cubicBezTo>
                        <a:pt x="57" y="42"/>
                        <a:pt x="39" y="8"/>
                        <a:pt x="30" y="4"/>
                      </a:cubicBezTo>
                      <a:cubicBezTo>
                        <a:pt x="21" y="0"/>
                        <a:pt x="6" y="18"/>
                        <a:pt x="3" y="28"/>
                      </a:cubicBezTo>
                      <a:cubicBezTo>
                        <a:pt x="0" y="38"/>
                        <a:pt x="7" y="51"/>
                        <a:pt x="15" y="64"/>
                      </a:cubicBezTo>
                      <a:cubicBezTo>
                        <a:pt x="15" y="64"/>
                        <a:pt x="33" y="67"/>
                        <a:pt x="33" y="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010360" y="4904640"/>
                  <a:ext cx="35640" cy="3564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008920" y="4871160"/>
                  <a:ext cx="36000" cy="3564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8050320" y="4930920"/>
                  <a:ext cx="36000" cy="3564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8085240" y="4902840"/>
                  <a:ext cx="36000" cy="3564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073360" y="4929120"/>
                  <a:ext cx="36000" cy="3564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7919280" y="4795200"/>
                <a:ext cx="33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249760" y="4783320"/>
                <a:ext cx="20880" cy="11880"/>
              </a:xfrm>
              <a:custGeom>
                <a:avLst/>
                <a:gdLst/>
                <a:ahLst/>
                <a:rect l="l" t="t" r="r" b="b"/>
                <a:pathLst>
                  <a:path w="39" h="21">
                    <a:moveTo>
                      <a:pt x="0" y="21"/>
                    </a:moveTo>
                    <a:cubicBezTo>
                      <a:pt x="10" y="21"/>
                      <a:pt x="21" y="21"/>
                      <a:pt x="27" y="18"/>
                    </a:cubicBezTo>
                    <a:cubicBezTo>
                      <a:pt x="33" y="15"/>
                      <a:pt x="36" y="7"/>
                      <a:pt x="3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7906680" y="4783320"/>
                <a:ext cx="20880" cy="11880"/>
              </a:xfrm>
              <a:custGeom>
                <a:avLst/>
                <a:gdLst/>
                <a:ahLst/>
                <a:rect l="l" t="t" r="r" b="b"/>
                <a:pathLst>
                  <a:path w="39" h="21">
                    <a:moveTo>
                      <a:pt x="0" y="21"/>
                    </a:moveTo>
                    <a:cubicBezTo>
                      <a:pt x="10" y="21"/>
                      <a:pt x="21" y="21"/>
                      <a:pt x="27" y="18"/>
                    </a:cubicBezTo>
                    <a:cubicBezTo>
                      <a:pt x="33" y="15"/>
                      <a:pt x="36" y="7"/>
                      <a:pt x="3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8183520" y="4812840"/>
                <a:ext cx="464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7998480" y="4812840"/>
                <a:ext cx="403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8193240" y="4861080"/>
                <a:ext cx="403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8187120" y="4836960"/>
                <a:ext cx="20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8224200" y="4836960"/>
                <a:ext cx="20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7994520" y="4836960"/>
                <a:ext cx="29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8067600" y="4836960"/>
                <a:ext cx="20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8022240" y="4861080"/>
                <a:ext cx="42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8061480" y="4812840"/>
                <a:ext cx="20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8125200" y="4812840"/>
                <a:ext cx="190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8115840" y="4836960"/>
                <a:ext cx="46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7930800" y="4836960"/>
                <a:ext cx="396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7933680" y="4812840"/>
                <a:ext cx="403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8117280" y="4861080"/>
                <a:ext cx="20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8159400" y="4861080"/>
                <a:ext cx="20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7930440" y="4861080"/>
                <a:ext cx="284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7977240" y="4861080"/>
                <a:ext cx="20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8079120" y="4861080"/>
                <a:ext cx="20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7988040" y="4881600"/>
                <a:ext cx="190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169840" y="4838040"/>
                <a:ext cx="14760" cy="158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150040" y="4798440"/>
                <a:ext cx="14760" cy="158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197560" y="4826160"/>
                <a:ext cx="14760" cy="158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195040" y="4874760"/>
                <a:ext cx="14760" cy="158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078040" y="4843440"/>
                <a:ext cx="14760" cy="158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050320" y="4815720"/>
                <a:ext cx="14760" cy="158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092080" y="4803840"/>
                <a:ext cx="14760" cy="158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002440" y="4841640"/>
                <a:ext cx="14760" cy="158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966080" y="4817520"/>
                <a:ext cx="14760" cy="158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974000" y="4865760"/>
                <a:ext cx="14760" cy="158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932600" y="4803840"/>
                <a:ext cx="14760" cy="158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7990560" y="4900320"/>
                <a:ext cx="144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173440" y="4885920"/>
                <a:ext cx="2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173440" y="4911840"/>
                <a:ext cx="1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157960" y="4863240"/>
                <a:ext cx="14760" cy="158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106840" y="4838040"/>
                <a:ext cx="14760" cy="158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8610120" y="4293720"/>
              <a:ext cx="108360" cy="261360"/>
              <a:chOff x="8610120" y="4293720"/>
              <a:chExt cx="108360" cy="261360"/>
            </a:xfrm>
          </p:grpSpPr>
          <p:sp>
            <p:nvSpPr>
              <p:cNvPr id="457" name=""/>
              <p:cNvSpPr/>
              <p:nvPr/>
            </p:nvSpPr>
            <p:spPr>
              <a:xfrm flipH="1" rot="16393800">
                <a:off x="8539920" y="4418280"/>
                <a:ext cx="240120" cy="3132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 rot="193800">
                <a:off x="8625600" y="4365360"/>
                <a:ext cx="69120" cy="150480"/>
              </a:xfrm>
              <a:custGeom>
                <a:avLst/>
                <a:gdLst>
                  <a:gd name="textAreaLeft" fmla="*/ 11520 w 69120"/>
                  <a:gd name="textAreaRight" fmla="*/ 57600 w 69120"/>
                  <a:gd name="textAreaTop" fmla="*/ 25560 h 150480"/>
                  <a:gd name="textAreaBottom" fmla="*/ 124920 h 150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126" y="21600"/>
                    </a:lnTo>
                    <a:lnTo>
                      <a:pt x="347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baba"/>
                  </a:gs>
                  <a:gs pos="50000">
                    <a:srgbClr val="ffffff"/>
                  </a:gs>
                  <a:gs pos="100000">
                    <a:srgbClr val="bababa"/>
                  </a:gs>
                </a:gsLst>
                <a:lin ang="1099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 rot="16393800">
                <a:off x="8642880" y="4264560"/>
                <a:ext cx="41760" cy="106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4e4e4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 rot="16393800">
                <a:off x="8647560" y="4515120"/>
                <a:ext cx="16200" cy="40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16393800">
                <a:off x="8656200" y="4333320"/>
                <a:ext cx="16200" cy="7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638560" y="4439160"/>
                <a:ext cx="48600" cy="28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3" name=""/>
          <p:cNvGrpSpPr/>
          <p:nvPr/>
        </p:nvGrpSpPr>
        <p:grpSpPr>
          <a:xfrm>
            <a:off x="533520" y="3429000"/>
            <a:ext cx="1371240" cy="1920960"/>
            <a:chOff x="533520" y="3429000"/>
            <a:chExt cx="1371240" cy="1920960"/>
          </a:xfrm>
        </p:grpSpPr>
        <p:grpSp>
          <p:nvGrpSpPr>
            <p:cNvPr id="464" name=""/>
            <p:cNvGrpSpPr/>
            <p:nvPr/>
          </p:nvGrpSpPr>
          <p:grpSpPr>
            <a:xfrm>
              <a:off x="673560" y="5242680"/>
              <a:ext cx="1231200" cy="107280"/>
              <a:chOff x="673560" y="5242680"/>
              <a:chExt cx="1231200" cy="10728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675000" y="5253840"/>
                <a:ext cx="1229760" cy="96120"/>
                <a:chOff x="675000" y="5253840"/>
                <a:chExt cx="1229760" cy="961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675000" y="5253840"/>
                  <a:ext cx="1229760" cy="9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V="1">
                  <a:off x="838800" y="5320800"/>
                  <a:ext cx="901440" cy="22320"/>
                </a:xfrm>
                <a:custGeom>
                  <a:avLst/>
                  <a:gdLst>
                    <a:gd name="textAreaLeft" fmla="*/ 96480 w 901440"/>
                    <a:gd name="textAreaRight" fmla="*/ 804960 w 901440"/>
                    <a:gd name="textAreaTop" fmla="*/ 2160 h 22320"/>
                    <a:gd name="textAreaBottom" fmla="*/ 20160 h 22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579" y="21600"/>
                      </a:lnTo>
                      <a:lnTo>
                        <a:pt x="1021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838800" y="5336640"/>
                  <a:ext cx="901440" cy="13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837720" y="5330880"/>
                  <a:ext cx="23760" cy="1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718280" y="5330880"/>
                  <a:ext cx="23760" cy="1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"/>
              <p:cNvSpPr/>
              <p:nvPr/>
            </p:nvSpPr>
            <p:spPr>
              <a:xfrm flipV="1">
                <a:off x="673560" y="5242320"/>
                <a:ext cx="1229760" cy="11160"/>
              </a:xfrm>
              <a:custGeom>
                <a:avLst/>
                <a:gdLst>
                  <a:gd name="textAreaLeft" fmla="*/ 107280 w 1229760"/>
                  <a:gd name="textAreaRight" fmla="*/ 1122480 w 1229760"/>
                  <a:gd name="textAreaTop" fmla="*/ 720 h 11160"/>
                  <a:gd name="textAreaBottom" fmla="*/ 10440 h 11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359" y="21600"/>
                    </a:lnTo>
                    <a:lnTo>
                      <a:pt x="241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833400" y="3429000"/>
              <a:ext cx="81360" cy="1814040"/>
              <a:chOff x="833400" y="3429000"/>
              <a:chExt cx="81360" cy="1814040"/>
            </a:xfrm>
          </p:grpSpPr>
          <p:sp>
            <p:nvSpPr>
              <p:cNvPr id="473" name=""/>
              <p:cNvSpPr/>
              <p:nvPr/>
            </p:nvSpPr>
            <p:spPr>
              <a:xfrm>
                <a:off x="846720" y="3429000"/>
                <a:ext cx="53280" cy="1802160"/>
              </a:xfrm>
              <a:custGeom>
                <a:avLst/>
                <a:gdLst>
                  <a:gd name="textAreaLeft" fmla="*/ 5400 w 53280"/>
                  <a:gd name="textAreaRight" fmla="*/ 47880 w 53280"/>
                  <a:gd name="textAreaTop" fmla="*/ 5400 h 1802160"/>
                  <a:gd name="textAreaBottom" fmla="*/ 1796760 h 1802160"/>
                </a:gdLst>
                <a:ahLst/>
                <a:rect l="textAreaLeft" t="textAreaTop" r="textAreaRight" b="textAreaBottom"/>
                <a:pathLst>
                  <a:path w="21600" h="725847">
                    <a:moveTo>
                      <a:pt x="7881" y="0"/>
                    </a:moveTo>
                    <a:arcTo wR="7881" hR="7881" stAng="16200000" swAng="-5400000"/>
                    <a:lnTo>
                      <a:pt x="0" y="717966"/>
                    </a:lnTo>
                    <a:arcTo wR="7881" hR="7881" stAng="10800000" swAng="-5400000"/>
                    <a:lnTo>
                      <a:pt x="13719" y="725847"/>
                    </a:lnTo>
                    <a:arcTo wR="7881" hR="7881" stAng="5400000" swAng="-5400000"/>
                    <a:lnTo>
                      <a:pt x="21600" y="7881"/>
                    </a:lnTo>
                    <a:arcTo wR="7881" hR="7881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33400" y="5227200"/>
                <a:ext cx="81360" cy="15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1336680" y="4284720"/>
              <a:ext cx="225360" cy="162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348200" y="5102280"/>
              <a:ext cx="203400" cy="12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348200" y="4300200"/>
              <a:ext cx="203400" cy="8607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1600" h="91285">
                  <a:moveTo>
                    <a:pt x="0" y="0"/>
                  </a:moveTo>
                  <a:arcTo wR="0" hR="0" stAng="16200000" swAng="-5400000"/>
                  <a:lnTo>
                    <a:pt x="0" y="91285"/>
                  </a:lnTo>
                  <a:arcTo wR="0" hR="0" stAng="10800000" swAng="-5400000"/>
                  <a:lnTo>
                    <a:pt x="21600" y="9128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359360" y="5093640"/>
              <a:ext cx="18720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1392840" y="4065840"/>
              <a:ext cx="37800" cy="1119240"/>
              <a:chOff x="1392840" y="4065840"/>
              <a:chExt cx="37800" cy="1119240"/>
            </a:xfrm>
          </p:grpSpPr>
          <p:sp>
            <p:nvSpPr>
              <p:cNvPr id="480" name=""/>
              <p:cNvSpPr/>
              <p:nvPr/>
            </p:nvSpPr>
            <p:spPr>
              <a:xfrm>
                <a:off x="1428840" y="4069080"/>
                <a:ext cx="0" cy="11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1392840" y="4065840"/>
                <a:ext cx="2520" cy="102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94280" y="5085000"/>
                <a:ext cx="363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1258920" y="3846600"/>
              <a:ext cx="292680" cy="20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1325520" y="3840840"/>
              <a:ext cx="154800" cy="2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 flipV="1">
              <a:off x="1286640" y="3833640"/>
              <a:ext cx="2844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85200" y="3830040"/>
              <a:ext cx="23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486080" y="3828600"/>
              <a:ext cx="3168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 flipV="1">
              <a:off x="1285200" y="3830040"/>
              <a:ext cx="30240" cy="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5400000">
              <a:off x="1375200" y="3989160"/>
              <a:ext cx="6444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29200" y="4042440"/>
              <a:ext cx="23400" cy="2700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0" y="61"/>
                  </a:moveTo>
                  <a:cubicBezTo>
                    <a:pt x="2" y="55"/>
                    <a:pt x="8" y="34"/>
                    <a:pt x="14" y="24"/>
                  </a:cubicBezTo>
                  <a:cubicBezTo>
                    <a:pt x="20" y="14"/>
                    <a:pt x="33" y="5"/>
                    <a:pt x="3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49280" y="4040640"/>
              <a:ext cx="46800" cy="28800"/>
            </a:xfrm>
            <a:custGeom>
              <a:avLst/>
              <a:gdLst/>
              <a:ahLst/>
              <a:rect l="l" t="t" r="r" b="b"/>
              <a:pathLst>
                <a:path w="75" h="64">
                  <a:moveTo>
                    <a:pt x="75" y="64"/>
                  </a:moveTo>
                  <a:cubicBezTo>
                    <a:pt x="72" y="57"/>
                    <a:pt x="65" y="32"/>
                    <a:pt x="53" y="21"/>
                  </a:cubicBezTo>
                  <a:cubicBezTo>
                    <a:pt x="41" y="10"/>
                    <a:pt x="11" y="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35760" y="4104000"/>
              <a:ext cx="333720" cy="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64480" y="4178880"/>
              <a:ext cx="47520" cy="23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1441800" y="4101120"/>
              <a:ext cx="138600" cy="114120"/>
              <a:chOff x="1441800" y="4101120"/>
              <a:chExt cx="138600" cy="114120"/>
            </a:xfrm>
          </p:grpSpPr>
          <p:sp>
            <p:nvSpPr>
              <p:cNvPr id="495" name=""/>
              <p:cNvSpPr/>
              <p:nvPr/>
            </p:nvSpPr>
            <p:spPr>
              <a:xfrm>
                <a:off x="1441800" y="4101120"/>
                <a:ext cx="120240" cy="83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463400" y="4104360"/>
                <a:ext cx="117000" cy="110880"/>
              </a:xfrm>
              <a:custGeom>
                <a:avLst/>
                <a:gdLst/>
                <a:ahLst/>
                <a:rect l="l" t="t" r="r" b="b"/>
                <a:pathLst>
                  <a:path w="139" h="189">
                    <a:moveTo>
                      <a:pt x="139" y="0"/>
                    </a:moveTo>
                    <a:cubicBezTo>
                      <a:pt x="115" y="0"/>
                      <a:pt x="91" y="0"/>
                      <a:pt x="73" y="6"/>
                    </a:cubicBezTo>
                    <a:cubicBezTo>
                      <a:pt x="55" y="12"/>
                      <a:pt x="39" y="22"/>
                      <a:pt x="28" y="36"/>
                    </a:cubicBezTo>
                    <a:cubicBezTo>
                      <a:pt x="17" y="50"/>
                      <a:pt x="8" y="68"/>
                      <a:pt x="4" y="93"/>
                    </a:cubicBezTo>
                    <a:cubicBezTo>
                      <a:pt x="0" y="118"/>
                      <a:pt x="2" y="169"/>
                      <a:pt x="1" y="18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511640" y="4136040"/>
                <a:ext cx="51120" cy="57960"/>
              </a:xfrm>
              <a:custGeom>
                <a:avLst/>
                <a:gdLst/>
                <a:ahLst/>
                <a:rect l="l" t="t" r="r" b="b"/>
                <a:pathLst>
                  <a:path w="61" h="99">
                    <a:moveTo>
                      <a:pt x="61" y="0"/>
                    </a:moveTo>
                    <a:cubicBezTo>
                      <a:pt x="52" y="4"/>
                      <a:pt x="20" y="8"/>
                      <a:pt x="10" y="24"/>
                    </a:cubicBezTo>
                    <a:cubicBezTo>
                      <a:pt x="0" y="40"/>
                      <a:pt x="3" y="83"/>
                      <a:pt x="1" y="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1340640" y="4294800"/>
              <a:ext cx="205200" cy="1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2280" y="4233600"/>
              <a:ext cx="248040" cy="112320"/>
            </a:xfrm>
            <a:custGeom>
              <a:avLst/>
              <a:gdLst>
                <a:gd name="textAreaLeft" fmla="*/ 43200 w 248040"/>
                <a:gd name="textAreaRight" fmla="*/ 204840 w 248040"/>
                <a:gd name="textAreaTop" fmla="*/ 19440 h 112320"/>
                <a:gd name="textAreaBottom" fmla="*/ 92880 h 11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78" y="21600"/>
                  </a:lnTo>
                  <a:lnTo>
                    <a:pt x="362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337400" y="4280400"/>
              <a:ext cx="215280" cy="122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1353240" y="4953600"/>
              <a:ext cx="195480" cy="91080"/>
              <a:chOff x="1353240" y="4953600"/>
              <a:chExt cx="195480" cy="91080"/>
            </a:xfrm>
          </p:grpSpPr>
          <p:sp>
            <p:nvSpPr>
              <p:cNvPr id="502" name=""/>
              <p:cNvSpPr/>
              <p:nvPr/>
            </p:nvSpPr>
            <p:spPr>
              <a:xfrm>
                <a:off x="1356480" y="5032800"/>
                <a:ext cx="186840" cy="118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" name=""/>
              <p:cNvGrpSpPr/>
              <p:nvPr/>
            </p:nvGrpSpPr>
            <p:grpSpPr>
              <a:xfrm>
                <a:off x="1353240" y="4953600"/>
                <a:ext cx="195480" cy="80280"/>
                <a:chOff x="1353240" y="4953600"/>
                <a:chExt cx="195480" cy="80280"/>
              </a:xfrm>
            </p:grpSpPr>
            <p:sp>
              <p:nvSpPr>
                <p:cNvPr id="504" name=""/>
                <p:cNvSpPr/>
                <p:nvPr/>
              </p:nvSpPr>
              <p:spPr>
                <a:xfrm flipV="1">
                  <a:off x="1353240" y="5002200"/>
                  <a:ext cx="53280" cy="3168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V="1">
                  <a:off x="1501560" y="4975560"/>
                  <a:ext cx="36720" cy="23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V="1">
                  <a:off x="1395720" y="4997520"/>
                  <a:ext cx="46440" cy="34920"/>
                </a:xfrm>
                <a:custGeom>
                  <a:avLst/>
                  <a:gdLst/>
                  <a:ahLst/>
                  <a:rect l="l" t="t" r="r" b="b"/>
                  <a:pathLst>
                    <a:path w="57" h="67">
                      <a:moveTo>
                        <a:pt x="33" y="67"/>
                      </a:moveTo>
                      <a:cubicBezTo>
                        <a:pt x="45" y="64"/>
                        <a:pt x="57" y="62"/>
                        <a:pt x="57" y="52"/>
                      </a:cubicBezTo>
                      <a:cubicBezTo>
                        <a:pt x="57" y="42"/>
                        <a:pt x="39" y="8"/>
                        <a:pt x="30" y="4"/>
                      </a:cubicBezTo>
                      <a:cubicBezTo>
                        <a:pt x="21" y="0"/>
                        <a:pt x="6" y="18"/>
                        <a:pt x="3" y="28"/>
                      </a:cubicBezTo>
                      <a:cubicBezTo>
                        <a:pt x="0" y="38"/>
                        <a:pt x="7" y="51"/>
                        <a:pt x="15" y="64"/>
                      </a:cubicBezTo>
                      <a:cubicBezTo>
                        <a:pt x="15" y="64"/>
                        <a:pt x="33" y="67"/>
                        <a:pt x="33" y="67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V="1">
                  <a:off x="1495800" y="5000400"/>
                  <a:ext cx="52920" cy="3168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V="1">
                  <a:off x="1462320" y="4975560"/>
                  <a:ext cx="36720" cy="23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V="1">
                  <a:off x="1360440" y="4975200"/>
                  <a:ext cx="53280" cy="3168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V="1">
                  <a:off x="1392480" y="4953600"/>
                  <a:ext cx="53280" cy="3168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V="1">
                  <a:off x="1414440" y="4972320"/>
                  <a:ext cx="53280" cy="3168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V="1">
                  <a:off x="1419480" y="5002200"/>
                  <a:ext cx="52920" cy="3168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V="1">
                  <a:off x="1488600" y="4953600"/>
                  <a:ext cx="53280" cy="3168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V="1">
                  <a:off x="1466280" y="5002200"/>
                  <a:ext cx="53280" cy="3168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V="1">
                  <a:off x="1451520" y="4955040"/>
                  <a:ext cx="52920" cy="3168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3" y="56"/>
                      </a:moveTo>
                      <a:cubicBezTo>
                        <a:pt x="23" y="61"/>
                        <a:pt x="57" y="52"/>
                        <a:pt x="61" y="44"/>
                      </a:cubicBezTo>
                      <a:cubicBezTo>
                        <a:pt x="65" y="36"/>
                        <a:pt x="47" y="10"/>
                        <a:pt x="37" y="5"/>
                      </a:cubicBezTo>
                      <a:cubicBezTo>
                        <a:pt x="27" y="0"/>
                        <a:pt x="8" y="9"/>
                        <a:pt x="4" y="17"/>
                      </a:cubicBezTo>
                      <a:cubicBezTo>
                        <a:pt x="0" y="25"/>
                        <a:pt x="3" y="51"/>
                        <a:pt x="13" y="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6" name=""/>
            <p:cNvSpPr/>
            <p:nvPr/>
          </p:nvSpPr>
          <p:spPr>
            <a:xfrm>
              <a:off x="1376640" y="5114160"/>
              <a:ext cx="30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376640" y="4862880"/>
              <a:ext cx="47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441800" y="5169960"/>
              <a:ext cx="22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431360" y="5092920"/>
              <a:ext cx="110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5920" y="5172840"/>
              <a:ext cx="18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437480" y="4893120"/>
              <a:ext cx="42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465920" y="4862880"/>
              <a:ext cx="66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472760" y="5113440"/>
              <a:ext cx="30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480320" y="5166000"/>
              <a:ext cx="241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23800" y="5145840"/>
              <a:ext cx="30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70960" y="5061600"/>
              <a:ext cx="504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367640" y="4911120"/>
              <a:ext cx="107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72680" y="5063400"/>
              <a:ext cx="32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512360" y="4884840"/>
              <a:ext cx="32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70960" y="4941720"/>
              <a:ext cx="48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368360" y="4941000"/>
              <a:ext cx="32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95440" y="4912200"/>
              <a:ext cx="32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47560" y="5210640"/>
              <a:ext cx="20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68360" y="5145120"/>
              <a:ext cx="30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50800" y="4917600"/>
              <a:ext cx="23400" cy="14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1353960" y="4838040"/>
              <a:ext cx="196200" cy="8640"/>
              <a:chOff x="1353960" y="4838040"/>
              <a:chExt cx="196200" cy="8640"/>
            </a:xfrm>
          </p:grpSpPr>
          <p:sp>
            <p:nvSpPr>
              <p:cNvPr id="537" name=""/>
              <p:cNvSpPr/>
              <p:nvPr/>
            </p:nvSpPr>
            <p:spPr>
              <a:xfrm>
                <a:off x="1371240" y="4845240"/>
                <a:ext cx="158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530720" y="4838040"/>
                <a:ext cx="19440" cy="86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0" y="18"/>
                    </a:moveTo>
                    <a:cubicBezTo>
                      <a:pt x="0" y="18"/>
                      <a:pt x="12" y="9"/>
                      <a:pt x="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1353960" y="4838040"/>
                <a:ext cx="19440" cy="86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0" y="18"/>
                    </a:moveTo>
                    <a:cubicBezTo>
                      <a:pt x="0" y="18"/>
                      <a:pt x="12" y="9"/>
                      <a:pt x="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1470960" y="4932360"/>
              <a:ext cx="22680" cy="14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490400" y="4885920"/>
              <a:ext cx="22680" cy="14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369440" y="4887000"/>
              <a:ext cx="23400" cy="147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94640" y="4852440"/>
              <a:ext cx="23400" cy="15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465920" y="4852440"/>
              <a:ext cx="22680" cy="15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rot="16333800">
              <a:off x="1603800" y="4093200"/>
              <a:ext cx="208080" cy="356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rot="133800">
              <a:off x="1668240" y="4051440"/>
              <a:ext cx="79560" cy="129600"/>
            </a:xfrm>
            <a:custGeom>
              <a:avLst/>
              <a:gdLst>
                <a:gd name="textAreaLeft" fmla="*/ 13320 w 79560"/>
                <a:gd name="textAreaRight" fmla="*/ 66240 w 79560"/>
                <a:gd name="textAreaTop" fmla="*/ 21960 h 129600"/>
                <a:gd name="textAreaBottom" fmla="*/ 107640 h 12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26" y="21600"/>
                  </a:lnTo>
                  <a:lnTo>
                    <a:pt x="347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ababa"/>
                </a:gs>
                <a:gs pos="50000">
                  <a:srgbClr val="ffffff"/>
                </a:gs>
                <a:gs pos="100000">
                  <a:srgbClr val="bababa"/>
                </a:gs>
              </a:gsLst>
              <a:lin ang="1093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rot="16333800">
              <a:off x="1690920" y="3948480"/>
              <a:ext cx="36360" cy="122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 rot="16333800">
              <a:off x="1696680" y="4175280"/>
              <a:ext cx="1404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rot="16333800">
              <a:off x="1703880" y="4012920"/>
              <a:ext cx="14040" cy="9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682280" y="4115880"/>
              <a:ext cx="56160" cy="21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3520" y="4478760"/>
              <a:ext cx="660960" cy="2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756000" y="4453200"/>
              <a:ext cx="140400" cy="66600"/>
              <a:chOff x="756000" y="4453200"/>
              <a:chExt cx="140400" cy="66600"/>
            </a:xfrm>
          </p:grpSpPr>
          <p:sp>
            <p:nvSpPr>
              <p:cNvPr id="553" name=""/>
              <p:cNvSpPr/>
              <p:nvPr/>
            </p:nvSpPr>
            <p:spPr>
              <a:xfrm>
                <a:off x="821160" y="4466880"/>
                <a:ext cx="75240" cy="4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56000" y="4473000"/>
                <a:ext cx="128160" cy="32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618000">
                <a:off x="830160" y="4472640"/>
                <a:ext cx="54000" cy="32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418000">
                <a:off x="811440" y="4482000"/>
                <a:ext cx="92880" cy="8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618000">
                <a:off x="843120" y="4480920"/>
                <a:ext cx="29160" cy="1656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1129680" y="4432680"/>
              <a:ext cx="480600" cy="90000"/>
              <a:chOff x="1129680" y="4432680"/>
              <a:chExt cx="480600" cy="90000"/>
            </a:xfrm>
          </p:grpSpPr>
          <p:sp>
            <p:nvSpPr>
              <p:cNvPr id="559" name=""/>
              <p:cNvSpPr/>
              <p:nvPr/>
            </p:nvSpPr>
            <p:spPr>
              <a:xfrm>
                <a:off x="1129680" y="4476240"/>
                <a:ext cx="238680" cy="27720"/>
              </a:xfrm>
              <a:prstGeom prst="roundRect">
                <a:avLst>
                  <a:gd name="adj" fmla="val 4864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191600" y="4457520"/>
                <a:ext cx="129600" cy="5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62240" y="4474800"/>
                <a:ext cx="213480" cy="4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41720" y="4457520"/>
                <a:ext cx="4536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174320" y="4461840"/>
                <a:ext cx="219240" cy="14760"/>
              </a:xfrm>
              <a:custGeom>
                <a:avLst/>
                <a:gdLst/>
                <a:ahLst/>
                <a:rect l="l" t="t" r="r" b="b"/>
                <a:pathLst>
                  <a:path w="339" h="38">
                    <a:moveTo>
                      <a:pt x="339" y="0"/>
                    </a:moveTo>
                    <a:cubicBezTo>
                      <a:pt x="319" y="5"/>
                      <a:pt x="300" y="10"/>
                      <a:pt x="288" y="15"/>
                    </a:cubicBezTo>
                    <a:cubicBezTo>
                      <a:pt x="276" y="20"/>
                      <a:pt x="276" y="26"/>
                      <a:pt x="267" y="30"/>
                    </a:cubicBezTo>
                    <a:cubicBezTo>
                      <a:pt x="258" y="34"/>
                      <a:pt x="244" y="35"/>
                      <a:pt x="234" y="36"/>
                    </a:cubicBezTo>
                    <a:cubicBezTo>
                      <a:pt x="224" y="37"/>
                      <a:pt x="213" y="38"/>
                      <a:pt x="204" y="36"/>
                    </a:cubicBezTo>
                    <a:cubicBezTo>
                      <a:pt x="195" y="34"/>
                      <a:pt x="187" y="29"/>
                      <a:pt x="177" y="24"/>
                    </a:cubicBezTo>
                    <a:cubicBezTo>
                      <a:pt x="167" y="19"/>
                      <a:pt x="153" y="11"/>
                      <a:pt x="141" y="9"/>
                    </a:cubicBezTo>
                    <a:cubicBezTo>
                      <a:pt x="129" y="7"/>
                      <a:pt x="114" y="10"/>
                      <a:pt x="102" y="12"/>
                    </a:cubicBezTo>
                    <a:cubicBezTo>
                      <a:pt x="90" y="14"/>
                      <a:pt x="77" y="21"/>
                      <a:pt x="69" y="24"/>
                    </a:cubicBezTo>
                    <a:cubicBezTo>
                      <a:pt x="61" y="27"/>
                      <a:pt x="62" y="28"/>
                      <a:pt x="51" y="30"/>
                    </a:cubicBezTo>
                    <a:cubicBezTo>
                      <a:pt x="40" y="32"/>
                      <a:pt x="19" y="34"/>
                      <a:pt x="0" y="3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1174320" y="4502520"/>
                <a:ext cx="219240" cy="14400"/>
              </a:xfrm>
              <a:custGeom>
                <a:avLst/>
                <a:gdLst/>
                <a:ahLst/>
                <a:rect l="l" t="t" r="r" b="b"/>
                <a:pathLst>
                  <a:path w="339" h="38">
                    <a:moveTo>
                      <a:pt x="339" y="0"/>
                    </a:moveTo>
                    <a:cubicBezTo>
                      <a:pt x="319" y="5"/>
                      <a:pt x="300" y="10"/>
                      <a:pt x="288" y="15"/>
                    </a:cubicBezTo>
                    <a:cubicBezTo>
                      <a:pt x="276" y="20"/>
                      <a:pt x="276" y="26"/>
                      <a:pt x="267" y="30"/>
                    </a:cubicBezTo>
                    <a:cubicBezTo>
                      <a:pt x="258" y="34"/>
                      <a:pt x="244" y="35"/>
                      <a:pt x="234" y="36"/>
                    </a:cubicBezTo>
                    <a:cubicBezTo>
                      <a:pt x="224" y="37"/>
                      <a:pt x="213" y="38"/>
                      <a:pt x="204" y="36"/>
                    </a:cubicBezTo>
                    <a:cubicBezTo>
                      <a:pt x="195" y="34"/>
                      <a:pt x="187" y="29"/>
                      <a:pt x="177" y="24"/>
                    </a:cubicBezTo>
                    <a:cubicBezTo>
                      <a:pt x="167" y="19"/>
                      <a:pt x="153" y="11"/>
                      <a:pt x="141" y="9"/>
                    </a:cubicBezTo>
                    <a:cubicBezTo>
                      <a:pt x="129" y="7"/>
                      <a:pt x="114" y="10"/>
                      <a:pt x="102" y="12"/>
                    </a:cubicBezTo>
                    <a:cubicBezTo>
                      <a:pt x="90" y="14"/>
                      <a:pt x="77" y="21"/>
                      <a:pt x="69" y="24"/>
                    </a:cubicBezTo>
                    <a:cubicBezTo>
                      <a:pt x="61" y="27"/>
                      <a:pt x="62" y="28"/>
                      <a:pt x="51" y="30"/>
                    </a:cubicBezTo>
                    <a:cubicBezTo>
                      <a:pt x="40" y="32"/>
                      <a:pt x="19" y="34"/>
                      <a:pt x="0" y="3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046400">
                <a:off x="1225800" y="4473000"/>
                <a:ext cx="55800" cy="32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4368600">
                <a:off x="1222920" y="4480560"/>
                <a:ext cx="58320" cy="1872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046400">
                <a:off x="1238760" y="4480920"/>
                <a:ext cx="28800" cy="1656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8" name=""/>
              <p:cNvGrpSpPr/>
              <p:nvPr/>
            </p:nvGrpSpPr>
            <p:grpSpPr>
              <a:xfrm>
                <a:off x="1328400" y="4432680"/>
                <a:ext cx="281880" cy="89640"/>
                <a:chOff x="1328400" y="4432680"/>
                <a:chExt cx="281880" cy="89640"/>
              </a:xfrm>
            </p:grpSpPr>
            <p:sp>
              <p:nvSpPr>
                <p:cNvPr id="569" name=""/>
                <p:cNvSpPr/>
                <p:nvPr/>
              </p:nvSpPr>
              <p:spPr>
                <a:xfrm flipV="1">
                  <a:off x="1336320" y="4432320"/>
                  <a:ext cx="273960" cy="34920"/>
                </a:xfrm>
                <a:prstGeom prst="blockArc">
                  <a:avLst>
                    <a:gd name="adj1" fmla="val 13453193"/>
                    <a:gd name="adj2" fmla="val 18946807"/>
                    <a:gd name="adj3" fmla="val 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flipV="1">
                  <a:off x="1328400" y="4487040"/>
                  <a:ext cx="273960" cy="34920"/>
                </a:xfrm>
                <a:prstGeom prst="blockArc">
                  <a:avLst>
                    <a:gd name="adj1" fmla="val 13453193"/>
                    <a:gd name="adj2" fmla="val 18946807"/>
                    <a:gd name="adj3" fmla="val 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571400" y="4462560"/>
                  <a:ext cx="0" cy="5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572" name=""/>
          <p:cNvGraphicFramePr/>
          <p:nvPr/>
        </p:nvGraphicFramePr>
        <p:xfrm>
          <a:off x="2271600" y="3851280"/>
          <a:ext cx="1766880" cy="1504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71600" y="3851280"/>
                    <a:ext cx="1766880" cy="15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4486320" y="3497400"/>
          <a:ext cx="850680" cy="1855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86320" y="3497400"/>
                    <a:ext cx="85068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6022800" y="3352680"/>
          <a:ext cx="1013040" cy="1962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22800" y="3352680"/>
                    <a:ext cx="101304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"/>
          <p:cNvSpPr/>
          <p:nvPr/>
        </p:nvSpPr>
        <p:spPr>
          <a:xfrm>
            <a:off x="986040" y="14479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  <a:ea typeface="隶书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354760" y="13716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  <a:ea typeface="隶书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86200" y="1371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  <a:ea typeface="隶书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251680" y="12952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  <a:ea typeface="隶书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860880" y="1371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  <a:ea typeface="隶书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231400" y="137160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  <a:ea typeface="隶书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135080" y="33526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  <a:ea typeface="隶书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68480" y="335268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  <a:ea typeface="隶书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921920" y="342900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  <a:ea typeface="隶书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692400" y="3429000"/>
            <a:ext cx="2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  <a:ea typeface="隶书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815600" y="33526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  <a:ea typeface="隶书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71800" y="54100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想一想：上述装置各有什么优缺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958040" y="76212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、气体收集装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3352680" y="1752480"/>
            <a:ext cx="1524240" cy="1687320"/>
            <a:chOff x="3352680" y="1752480"/>
            <a:chExt cx="1524240" cy="1687320"/>
          </a:xfrm>
        </p:grpSpPr>
        <p:sp>
          <p:nvSpPr>
            <p:cNvPr id="592" name=""/>
            <p:cNvSpPr/>
            <p:nvPr/>
          </p:nvSpPr>
          <p:spPr>
            <a:xfrm>
              <a:off x="3673080" y="2556720"/>
              <a:ext cx="636120" cy="883080"/>
            </a:xfrm>
            <a:custGeom>
              <a:avLst/>
              <a:gdLst>
                <a:gd name="textAreaLeft" fmla="*/ 30960 w 636120"/>
                <a:gd name="textAreaRight" fmla="*/ 605160 w 636120"/>
                <a:gd name="textAreaTop" fmla="*/ 30960 h 883080"/>
                <a:gd name="textAreaBottom" fmla="*/ 852120 h 883080"/>
              </a:gdLst>
              <a:ahLst/>
              <a:rect l="textAreaLeft" t="textAreaTop" r="textAreaRight" b="textAreaBottom"/>
              <a:pathLst>
                <a:path w="21600" h="29981">
                  <a:moveTo>
                    <a:pt x="3600" y="0"/>
                  </a:moveTo>
                  <a:arcTo wR="3600" hR="3600" stAng="16200000" swAng="-5400000"/>
                  <a:lnTo>
                    <a:pt x="0" y="26381"/>
                  </a:lnTo>
                  <a:arcTo wR="3600" hR="3600" stAng="10800000" swAng="-5400000"/>
                  <a:lnTo>
                    <a:pt x="18000" y="299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735720" y="2312640"/>
              <a:ext cx="513360" cy="256680"/>
            </a:xfrm>
            <a:custGeom>
              <a:avLst/>
              <a:gdLst/>
              <a:ahLst/>
              <a:rect l="l" t="t" r="r" b="b"/>
              <a:pathLst>
                <a:path w="474" h="235">
                  <a:moveTo>
                    <a:pt x="0" y="235"/>
                  </a:moveTo>
                  <a:lnTo>
                    <a:pt x="102" y="180"/>
                  </a:lnTo>
                  <a:lnTo>
                    <a:pt x="105" y="54"/>
                  </a:lnTo>
                  <a:lnTo>
                    <a:pt x="57" y="0"/>
                  </a:lnTo>
                  <a:lnTo>
                    <a:pt x="420" y="0"/>
                  </a:lnTo>
                  <a:lnTo>
                    <a:pt x="375" y="51"/>
                  </a:lnTo>
                  <a:lnTo>
                    <a:pt x="372" y="180"/>
                  </a:lnTo>
                  <a:lnTo>
                    <a:pt x="474" y="235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00600" y="3313440"/>
              <a:ext cx="26280" cy="2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71960" y="2072880"/>
              <a:ext cx="342720" cy="181080"/>
            </a:xfrm>
            <a:custGeom>
              <a:avLst/>
              <a:gdLst/>
              <a:ahLst/>
              <a:rect l="l" t="t" r="r" b="b"/>
              <a:pathLst>
                <a:path w="349" h="193">
                  <a:moveTo>
                    <a:pt x="349" y="1"/>
                  </a:moveTo>
                  <a:lnTo>
                    <a:pt x="59" y="0"/>
                  </a:lnTo>
                  <a:lnTo>
                    <a:pt x="29" y="8"/>
                  </a:lnTo>
                  <a:lnTo>
                    <a:pt x="8" y="29"/>
                  </a:lnTo>
                  <a:lnTo>
                    <a:pt x="0" y="59"/>
                  </a:lnTo>
                  <a:lnTo>
                    <a:pt x="1" y="19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036320" y="2038680"/>
              <a:ext cx="380880" cy="203760"/>
            </a:xfrm>
            <a:custGeom>
              <a:avLst/>
              <a:gdLst/>
              <a:ahLst/>
              <a:rect l="l" t="t" r="r" b="b"/>
              <a:pathLst>
                <a:path w="388" h="217">
                  <a:moveTo>
                    <a:pt x="388" y="0"/>
                  </a:moveTo>
                  <a:lnTo>
                    <a:pt x="94" y="0"/>
                  </a:lnTo>
                  <a:lnTo>
                    <a:pt x="70" y="3"/>
                  </a:lnTo>
                  <a:lnTo>
                    <a:pt x="47" y="13"/>
                  </a:lnTo>
                  <a:lnTo>
                    <a:pt x="27" y="27"/>
                  </a:lnTo>
                  <a:lnTo>
                    <a:pt x="13" y="47"/>
                  </a:lnTo>
                  <a:lnTo>
                    <a:pt x="3" y="70"/>
                  </a:lnTo>
                  <a:lnTo>
                    <a:pt x="0" y="94"/>
                  </a:lnTo>
                  <a:lnTo>
                    <a:pt x="1" y="2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4276440" y="207288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4270680" y="204048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3871440" y="2271960"/>
              <a:ext cx="0" cy="101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3903480" y="2271960"/>
              <a:ext cx="0" cy="101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3955680" y="2280240"/>
              <a:ext cx="0" cy="1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3984120" y="2280240"/>
              <a:ext cx="0" cy="1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14760" y="1794600"/>
              <a:ext cx="239760" cy="525960"/>
            </a:xfrm>
            <a:custGeom>
              <a:avLst/>
              <a:gdLst/>
              <a:ahLst/>
              <a:rect l="l" t="t" r="r" b="b"/>
              <a:pathLst>
                <a:path w="256" h="586">
                  <a:moveTo>
                    <a:pt x="0" y="2"/>
                  </a:moveTo>
                  <a:lnTo>
                    <a:pt x="152" y="0"/>
                  </a:lnTo>
                  <a:lnTo>
                    <a:pt x="200" y="16"/>
                  </a:lnTo>
                  <a:lnTo>
                    <a:pt x="250" y="87"/>
                  </a:lnTo>
                  <a:lnTo>
                    <a:pt x="256" y="178"/>
                  </a:lnTo>
                  <a:lnTo>
                    <a:pt x="255" y="58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03040" y="2237040"/>
              <a:ext cx="365040" cy="106560"/>
            </a:xfrm>
            <a:prstGeom prst="rect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ffffff"/>
                </a:gs>
                <a:gs pos="100000">
                  <a:srgbClr val="585858"/>
                </a:gs>
              </a:gsLst>
              <a:lin ang="10800000"/>
            </a:gra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44440" y="2350440"/>
              <a:ext cx="292320" cy="77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c0c0c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352680" y="1794600"/>
              <a:ext cx="358560" cy="3600"/>
            </a:xfrm>
            <a:custGeom>
              <a:avLst/>
              <a:gdLst/>
              <a:ahLst/>
              <a:rect l="l" t="t" r="r" b="b"/>
              <a:pathLst>
                <a:path w="383" h="4">
                  <a:moveTo>
                    <a:pt x="0" y="4"/>
                  </a:moveTo>
                  <a:lnTo>
                    <a:pt x="38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52680" y="1757520"/>
              <a:ext cx="362160" cy="2520"/>
            </a:xfrm>
            <a:custGeom>
              <a:avLst/>
              <a:gdLst/>
              <a:ahLst/>
              <a:rect l="l" t="t" r="r" b="b"/>
              <a:pathLst>
                <a:path w="387" h="3">
                  <a:moveTo>
                    <a:pt x="0" y="0"/>
                  </a:moveTo>
                  <a:lnTo>
                    <a:pt x="387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02520" y="1752480"/>
              <a:ext cx="308880" cy="568080"/>
            </a:xfrm>
            <a:custGeom>
              <a:avLst/>
              <a:gdLst/>
              <a:ahLst/>
              <a:rect l="l" t="t" r="r" b="b"/>
              <a:pathLst>
                <a:path w="330" h="633">
                  <a:moveTo>
                    <a:pt x="0" y="0"/>
                  </a:moveTo>
                  <a:lnTo>
                    <a:pt x="198" y="12"/>
                  </a:lnTo>
                  <a:lnTo>
                    <a:pt x="267" y="36"/>
                  </a:lnTo>
                  <a:lnTo>
                    <a:pt x="312" y="117"/>
                  </a:lnTo>
                  <a:lnTo>
                    <a:pt x="318" y="195"/>
                  </a:lnTo>
                  <a:lnTo>
                    <a:pt x="330" y="63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09" name=""/>
          <p:cNvGraphicFramePr/>
          <p:nvPr/>
        </p:nvGraphicFramePr>
        <p:xfrm>
          <a:off x="1371600" y="1600200"/>
          <a:ext cx="150192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150192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5818320" y="198108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隶书"/>
              </a:rPr>
              <a:t>二氧化碳气体能不能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隶书"/>
              </a:rPr>
              <a:t>排水法收集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44440" y="3962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点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09480" y="9144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ahoma"/>
                <a:ea typeface="隶书"/>
              </a:rPr>
              <a:t>1</a:t>
            </a:r>
            <a:r>
              <a:rPr b="0" lang="zh-CN" sz="3600" spc="-1" strike="noStrike">
                <a:solidFill>
                  <a:srgbClr val="ff00ff"/>
                </a:solidFill>
                <a:latin typeface="Tahoma"/>
                <a:ea typeface="隶书"/>
              </a:rPr>
              <a:t>、怎样检验生成的气体是二氧化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71640" y="18446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隶书"/>
              </a:rPr>
              <a:t>答：将生成的气体通入澄清的石灰水，石灰水变浑浊，证明生成的气体 是二氧化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281240" y="604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讨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179600" y="289548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ahoma"/>
                <a:ea typeface="隶书"/>
              </a:rPr>
              <a:t>2</a:t>
            </a:r>
            <a:r>
              <a:rPr b="0" lang="zh-CN" sz="3600" spc="-1" strike="noStrike">
                <a:solidFill>
                  <a:srgbClr val="ff00ff"/>
                </a:solidFill>
                <a:latin typeface="Tahoma"/>
                <a:ea typeface="隶书"/>
              </a:rPr>
              <a:t>、怎样检验二氧化碳是否收集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343600" y="3886200"/>
            <a:ext cx="42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隶书"/>
              </a:rPr>
              <a:t>答：用燃着的木条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隶书"/>
              </a:rPr>
              <a:t>接近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隶书"/>
              </a:rPr>
              <a:t>集气瓶口，如果木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隶书"/>
              </a:rPr>
              <a:t>熄灭，证明已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6" presetSubtype="42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2057400" cy="182556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2057400" cy="185076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1295280" y="4267080"/>
            <a:ext cx="685800" cy="198144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4"/>
          <a:stretch/>
        </p:blipFill>
        <p:spPr>
          <a:xfrm>
            <a:off x="5410080" y="4267080"/>
            <a:ext cx="1381320" cy="203832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5"/>
          <a:stretch/>
        </p:blipFill>
        <p:spPr>
          <a:xfrm>
            <a:off x="5410080" y="4267080"/>
            <a:ext cx="1381320" cy="203832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6"/>
          <a:stretch/>
        </p:blipFill>
        <p:spPr>
          <a:xfrm>
            <a:off x="7236000" y="4221000"/>
            <a:ext cx="1390320" cy="20574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 txBox="1"/>
          <p:nvPr/>
        </p:nvSpPr>
        <p:spPr>
          <a:xfrm rot="5400000">
            <a:off x="-100080" y="4900680"/>
            <a:ext cx="18763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黑体"/>
              </a:rPr>
              <a:t>检验方法</a:t>
            </a:r>
            <a:endParaRPr b="1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25" name=""/>
          <p:cNvSpPr/>
          <p:nvPr/>
        </p:nvSpPr>
        <p:spPr>
          <a:xfrm>
            <a:off x="2209680" y="4419720"/>
            <a:ext cx="1828800" cy="1143000"/>
          </a:xfrm>
          <a:prstGeom prst="wedgeRoundRectCallout">
            <a:avLst>
              <a:gd name="adj1" fmla="val -78125"/>
              <a:gd name="adj2" fmla="val 80277"/>
              <a:gd name="adj3" fmla="val 16667"/>
            </a:avLst>
          </a:prstGeom>
          <a:solidFill>
            <a:srgbClr val="cc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澄清石灰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变浑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 rot="5400000">
            <a:off x="3785760" y="4976640"/>
            <a:ext cx="18766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黑体"/>
              </a:rPr>
              <a:t>验满方法</a:t>
            </a:r>
            <a:endParaRPr b="1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7"/>
          <a:stretch/>
        </p:blipFill>
        <p:spPr>
          <a:xfrm>
            <a:off x="6858000" y="2286000"/>
            <a:ext cx="1981080" cy="181944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8"/>
          <a:stretch/>
        </p:blipFill>
        <p:spPr>
          <a:xfrm>
            <a:off x="1295280" y="4267080"/>
            <a:ext cx="684360" cy="19814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9"/>
          <a:stretch/>
        </p:blipFill>
        <p:spPr>
          <a:xfrm>
            <a:off x="2438280" y="220968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2293200" y="126036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琥珀"/>
              </a:rPr>
              <a:t>实验室里制取二氧化碳的步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071080" y="444600"/>
            <a:ext cx="42955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讨论并归纳实验室制取二氧化碳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操作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1797120" cy="161748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3124080" y="3513240"/>
            <a:ext cx="1797120" cy="161424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3"/>
          <a:stretch/>
        </p:blipFill>
        <p:spPr>
          <a:xfrm>
            <a:off x="5181480" y="3581280"/>
            <a:ext cx="1863720" cy="152424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4"/>
          <a:stretch/>
        </p:blipFill>
        <p:spPr>
          <a:xfrm>
            <a:off x="7238880" y="3622680"/>
            <a:ext cx="1774800" cy="148284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0" y="2590920"/>
            <a:ext cx="1440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连接仪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 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859760" y="2620800"/>
            <a:ext cx="942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检查气密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658680" y="2568600"/>
            <a:ext cx="95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加大理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411160" y="2568600"/>
            <a:ext cx="95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加稀盐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  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162920" y="2568600"/>
            <a:ext cx="16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收集气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 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143000" y="2743200"/>
            <a:ext cx="503280" cy="216000"/>
          </a:xfrm>
          <a:prstGeom prst="rightArrow">
            <a:avLst>
              <a:gd name="adj1" fmla="val 50000"/>
              <a:gd name="adj2" fmla="val 5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971800" y="2743200"/>
            <a:ext cx="503280" cy="216000"/>
          </a:xfrm>
          <a:prstGeom prst="rightArrow">
            <a:avLst>
              <a:gd name="adj1" fmla="val 50000"/>
              <a:gd name="adj2" fmla="val 5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754520" y="2743200"/>
            <a:ext cx="503280" cy="216000"/>
          </a:xfrm>
          <a:prstGeom prst="rightArrow">
            <a:avLst>
              <a:gd name="adj1" fmla="val 50000"/>
              <a:gd name="adj2" fmla="val 5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29400" y="2679840"/>
            <a:ext cx="503280" cy="215640"/>
          </a:xfrm>
          <a:prstGeom prst="rightArrow">
            <a:avLst>
              <a:gd name="adj1" fmla="val 50000"/>
              <a:gd name="adj2" fmla="val 583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76320" y="2514600"/>
            <a:ext cx="8915400" cy="332892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2500200" y="1422360"/>
            <a:ext cx="43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琥珀"/>
              </a:rPr>
              <a:t>关于收集较纯的二氧化碳的处理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2743200" y="380880"/>
            <a:ext cx="3276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课堂练习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80880" y="1523880"/>
            <a:ext cx="914400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下图为实验室制取二氧化碳的装置图，有哪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错误？为什么？请改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3048120" y="3106800"/>
            <a:ext cx="3735360" cy="261288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990720" y="2819520"/>
            <a:ext cx="2160360" cy="1109520"/>
          </a:xfrm>
          <a:prstGeom prst="wedgeRoundRectCallout">
            <a:avLst>
              <a:gd name="adj1" fmla="val 65578"/>
              <a:gd name="adj2" fmla="val 118240"/>
              <a:gd name="adj3" fmla="val 16667"/>
            </a:avLst>
          </a:prstGeom>
          <a:solidFill>
            <a:srgbClr val="ccffcc"/>
          </a:solidFill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长颈漏斗没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插入液面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09480" y="4419720"/>
            <a:ext cx="1890720" cy="1965240"/>
          </a:xfrm>
          <a:prstGeom prst="wedgeEllipseCallout">
            <a:avLst>
              <a:gd name="adj1" fmla="val 108356"/>
              <a:gd name="adj2" fmla="val -3310"/>
            </a:avLst>
          </a:prstGeom>
          <a:solidFill>
            <a:srgbClr val="ccffcc"/>
          </a:solidFill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出气导管太长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伸入了液面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629400" y="2666880"/>
            <a:ext cx="1871640" cy="1297080"/>
          </a:xfrm>
          <a:prstGeom prst="wedgeRectCallout">
            <a:avLst>
              <a:gd name="adj1" fmla="val -86300"/>
              <a:gd name="adj2" fmla="val 121236"/>
            </a:avLst>
          </a:prstGeom>
          <a:solidFill>
            <a:srgbClr val="ccffcc"/>
          </a:solidFill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没有用向上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空气法收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228600" y="1085760"/>
            <a:ext cx="1515960" cy="1581120"/>
            <a:chOff x="228600" y="1085760"/>
            <a:chExt cx="1515960" cy="1581120"/>
          </a:xfrm>
        </p:grpSpPr>
        <p:graphicFrame>
          <p:nvGraphicFramePr>
            <p:cNvPr id="654" name=""/>
            <p:cNvGraphicFramePr/>
            <p:nvPr/>
          </p:nvGraphicFramePr>
          <p:xfrm>
            <a:off x="228600" y="1085760"/>
            <a:ext cx="1515960" cy="1581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085760"/>
                      <a:ext cx="1515960" cy="15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6" name=""/>
            <p:cNvSpPr/>
            <p:nvPr/>
          </p:nvSpPr>
          <p:spPr>
            <a:xfrm>
              <a:off x="1295280" y="1828800"/>
              <a:ext cx="22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2111400" y="1008000"/>
            <a:ext cx="1240920" cy="1734840"/>
            <a:chOff x="2111400" y="1008000"/>
            <a:chExt cx="1240920" cy="1734840"/>
          </a:xfrm>
        </p:grpSpPr>
        <p:graphicFrame>
          <p:nvGraphicFramePr>
            <p:cNvPr id="658" name=""/>
            <p:cNvGraphicFramePr/>
            <p:nvPr/>
          </p:nvGraphicFramePr>
          <p:xfrm>
            <a:off x="2111400" y="1008000"/>
            <a:ext cx="1240920" cy="1734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11400" y="1008000"/>
                      <a:ext cx="1240920" cy="173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0" name=""/>
            <p:cNvSpPr/>
            <p:nvPr/>
          </p:nvSpPr>
          <p:spPr>
            <a:xfrm>
              <a:off x="2874960" y="1420920"/>
              <a:ext cx="2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2416320" y="3048120"/>
            <a:ext cx="1159920" cy="1734480"/>
            <a:chOff x="2416320" y="3048120"/>
            <a:chExt cx="1159920" cy="1734480"/>
          </a:xfrm>
        </p:grpSpPr>
        <p:graphicFrame>
          <p:nvGraphicFramePr>
            <p:cNvPr id="662" name=""/>
            <p:cNvGraphicFramePr/>
            <p:nvPr/>
          </p:nvGraphicFramePr>
          <p:xfrm>
            <a:off x="2501640" y="3048120"/>
            <a:ext cx="1074600" cy="1734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1640" y="3048120"/>
                      <a:ext cx="1074600" cy="173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4" name=""/>
            <p:cNvSpPr/>
            <p:nvPr/>
          </p:nvSpPr>
          <p:spPr>
            <a:xfrm>
              <a:off x="2416320" y="32238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5" name="" descr=""/>
          <p:cNvPicPr/>
          <p:nvPr/>
        </p:nvPicPr>
        <p:blipFill>
          <a:blip r:embed="rId7"/>
          <a:stretch/>
        </p:blipFill>
        <p:spPr>
          <a:xfrm>
            <a:off x="358920" y="2971800"/>
            <a:ext cx="1241280" cy="182880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129528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971800" y="-135000"/>
            <a:ext cx="449568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课堂练习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038480" y="1295280"/>
            <a:ext cx="5040360" cy="48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实验室制取氧气的发生装置应选择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，收集装置应选择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实验室制取氢气的发生装置应选择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，收集装置应选择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实验室制取二氧化碳的发生装置应选择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，收集装置应选择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81480" y="1835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48320" y="23623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D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029200" y="356400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B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724280" y="4067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E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638680" y="536400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B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5867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24000" y="5157720"/>
            <a:ext cx="2065320" cy="1314360"/>
            <a:chOff x="324000" y="5157720"/>
            <a:chExt cx="2065320" cy="1314360"/>
          </a:xfrm>
        </p:grpSpPr>
        <p:graphicFrame>
          <p:nvGraphicFramePr>
            <p:cNvPr id="676" name=""/>
            <p:cNvGraphicFramePr/>
            <p:nvPr/>
          </p:nvGraphicFramePr>
          <p:xfrm>
            <a:off x="324000" y="5157720"/>
            <a:ext cx="2065320" cy="1314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7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24000" y="5157720"/>
                      <a:ext cx="2065320" cy="13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8" name=""/>
            <p:cNvSpPr/>
            <p:nvPr/>
          </p:nvSpPr>
          <p:spPr>
            <a:xfrm>
              <a:off x="964800" y="5157720"/>
              <a:ext cx="28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79" name=""/>
          <p:cNvGraphicFramePr/>
          <p:nvPr/>
        </p:nvGraphicFramePr>
        <p:xfrm>
          <a:off x="2666880" y="5084640"/>
          <a:ext cx="981360" cy="1371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66880" y="5084640"/>
                    <a:ext cx="981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"/>
          <p:cNvSpPr/>
          <p:nvPr/>
        </p:nvSpPr>
        <p:spPr>
          <a:xfrm>
            <a:off x="2743200" y="595008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BatangChe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3672000" y="1773360"/>
            <a:ext cx="547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Ca      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＋    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Cl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CaCl</a:t>
            </a:r>
            <a:r>
              <a:rPr b="0" lang="zh-CN" sz="24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＋      ＋  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CO</a:t>
            </a:r>
            <a:r>
              <a:rPr b="0" lang="zh-CN" sz="24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040640" y="177336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371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fa371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040280" y="1773360"/>
            <a:ext cx="82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048120" y="304920"/>
            <a:ext cx="284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隶书"/>
              </a:rPr>
              <a:t>课堂小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079640" y="1844640"/>
            <a:ext cx="215640" cy="4321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271520" y="1676520"/>
            <a:ext cx="2266920" cy="520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）反应原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366920" y="3141720"/>
            <a:ext cx="2146320" cy="520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）装置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366920" y="4724280"/>
            <a:ext cx="2190600" cy="520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）收集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366920" y="5805360"/>
            <a:ext cx="2233440" cy="520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）检验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87280" y="2565360"/>
            <a:ext cx="574560" cy="3072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二氧化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实验室制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886200" y="2438280"/>
            <a:ext cx="3300120" cy="2151000"/>
            <a:chOff x="3886200" y="2438280"/>
            <a:chExt cx="3300120" cy="2151000"/>
          </a:xfrm>
        </p:grpSpPr>
        <p:pic>
          <p:nvPicPr>
            <p:cNvPr id="693" name="" descr=""/>
            <p:cNvPicPr/>
            <p:nvPr/>
          </p:nvPicPr>
          <p:blipFill>
            <a:blip r:embed="rId1"/>
            <a:stretch/>
          </p:blipFill>
          <p:spPr>
            <a:xfrm>
              <a:off x="3886200" y="2438280"/>
              <a:ext cx="1783800" cy="21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" descr=""/>
            <p:cNvPicPr/>
            <p:nvPr/>
          </p:nvPicPr>
          <p:blipFill>
            <a:blip r:embed="rId2"/>
            <a:stretch/>
          </p:blipFill>
          <p:spPr>
            <a:xfrm>
              <a:off x="5579640" y="2438280"/>
              <a:ext cx="1606680" cy="215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5" name=""/>
          <p:cNvSpPr/>
          <p:nvPr/>
        </p:nvSpPr>
        <p:spPr>
          <a:xfrm>
            <a:off x="4329720" y="4797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向上排空气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809880" y="57340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将气体通入澄清石灰水或向集气瓶倒入少量澄清石灰水，澄清石灰水变浑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826880" y="17733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3710"/>
                </a:solidFill>
                <a:latin typeface="Arial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826880" y="17733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912720" y="17733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371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371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3710"/>
                </a:solidFill>
                <a:latin typeface="Arial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912000" y="18590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500"/>
                            </p:stCondLst>
                            <p:childTnLst>
                              <p:par>
                                <p:cTn id="7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50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21800" y="320760"/>
            <a:ext cx="48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 、实验室制取二氧化碳的反应原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9810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实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：稀盐酸与大理石（或石灰石）反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2800" y="106668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我们通过下面三个对比实验进行探亲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33520" y="2743200"/>
          <a:ext cx="8229600" cy="1218960"/>
        </p:xfrm>
        <a:graphic>
          <a:graphicData uri="http://schemas.openxmlformats.org/drawingml/2006/table">
            <a:tbl>
              <a:tblPr/>
              <a:tblGrid>
                <a:gridCol w="1218960"/>
                <a:gridCol w="701064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2104560" y="144792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注意观察反应现象，并分析原因，然后填写下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5600" y="2819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85600" y="342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41560" y="314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2200" y="27432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有大量气泡产生，大理石逐渐溶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98760" y="436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84720" y="33526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该反应在常温下进行，反应速度适中，便于控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50840" y="520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9400" y="405432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大理石与稀盐酸反应生成了碳酸和氯化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8920" y="4495680"/>
            <a:ext cx="39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隶书"/>
              </a:rPr>
              <a:t>CaC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隶书"/>
              </a:rPr>
              <a:t>+2HCl=CaC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隶书"/>
              </a:rPr>
              <a:t>+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隶书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71400" y="49528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碳酸很不稳定，分解成水和二氧化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92680" y="495288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隶书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隶书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隶书"/>
              </a:rPr>
              <a:t>=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隶书"/>
              </a:rPr>
              <a:t>O+C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8381880" y="5029200"/>
            <a:ext cx="0" cy="38088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7040" y="5486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总反应方程式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486400" y="5867280"/>
            <a:ext cx="0" cy="45720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943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隶书"/>
              </a:rPr>
              <a:t>CaC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隶书"/>
              </a:rPr>
              <a:t>+2HCl=CaC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隶书"/>
              </a:rPr>
              <a:t>+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隶书"/>
              </a:rPr>
              <a:t>O+C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 txBox="1"/>
          <p:nvPr/>
        </p:nvSpPr>
        <p:spPr>
          <a:xfrm>
            <a:off x="2195640" y="981000"/>
            <a:ext cx="3816360" cy="22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05720" y="609480"/>
            <a:ext cx="49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实验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：稀硫酸与大理石（或石灰石）反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576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09480" y="1600200"/>
          <a:ext cx="8229600" cy="4343400"/>
        </p:xfrm>
        <a:graphic>
          <a:graphicData uri="http://schemas.openxmlformats.org/drawingml/2006/table">
            <a:tbl>
              <a:tblPr/>
              <a:tblGrid>
                <a:gridCol w="1219320"/>
                <a:gridCol w="701028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982080" y="1852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现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6120" y="3657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77160" y="1676520"/>
            <a:ext cx="18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刚开始有大量气泡产生，一时间后，气泡逐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减少 ，反应逐渐停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819520"/>
            <a:ext cx="678168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虽然该反应能生成二氧化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CaCO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+H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==CaSO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+H</a:t>
            </a:r>
            <a:r>
              <a:rPr b="1" lang="zh-CN" sz="12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O+CO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但生成的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CaSO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微溶于水，覆盖在大理石表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形成一层薄膜，使大理石与酸不能接触，反应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以进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82080" y="5205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3640" y="518148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实验室制取二氧化碳能不能用稀硫酸代替稀盐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16292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689200" y="558720"/>
            <a:ext cx="41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实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3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：稀盐酸与碳酸钠粉未反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9480" y="1676520"/>
          <a:ext cx="8229600" cy="2743200"/>
        </p:xfrm>
        <a:graphic>
          <a:graphicData uri="http://schemas.openxmlformats.org/drawingml/2006/table">
            <a:tbl>
              <a:tblPr/>
              <a:tblGrid>
                <a:gridCol w="1219320"/>
                <a:gridCol w="70102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961560" y="1905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61560" y="266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61560" y="3657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结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04240" y="18288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反应非常剧烈，短时间产生大量气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259092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碳酸钠粉未的表面积很大，与盐酸接触面积大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反应速度很快，不易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03640" y="352116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实验室不能用碳酸钠粉未或大理石粉未等粉未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物质制取二氧化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64360" y="4754520"/>
            <a:ext cx="24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该反应的化学方程式为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行楷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ahoma"/>
                <a:ea typeface="隶书"/>
              </a:rPr>
              <a:t>Na</a:t>
            </a:r>
            <a:r>
              <a:rPr b="0" lang="en-US" sz="1800" spc="-1" strike="noStrike">
                <a:solidFill>
                  <a:srgbClr val="ff00ff"/>
                </a:solidFill>
                <a:latin typeface="Tahoma"/>
                <a:ea typeface="隶书"/>
              </a:rPr>
              <a:t>2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  <a:ea typeface="隶书"/>
              </a:rPr>
              <a:t>CO</a:t>
            </a:r>
            <a:r>
              <a:rPr b="0" lang="en-US" sz="1800" spc="-1" strike="noStrike">
                <a:solidFill>
                  <a:srgbClr val="ff00ff"/>
                </a:solidFill>
                <a:latin typeface="Tahoma"/>
                <a:ea typeface="隶书"/>
              </a:rPr>
              <a:t>3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  <a:ea typeface="隶书"/>
              </a:rPr>
              <a:t>+2HCl=2NaCl+H</a:t>
            </a:r>
            <a:r>
              <a:rPr b="0" lang="en-US" sz="1800" spc="-1" strike="noStrike">
                <a:solidFill>
                  <a:srgbClr val="ff00ff"/>
                </a:solidFill>
                <a:latin typeface="Tahoma"/>
                <a:ea typeface="隶书"/>
              </a:rPr>
              <a:t>2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  <a:ea typeface="隶书"/>
              </a:rPr>
              <a:t>O+CO</a:t>
            </a:r>
            <a:r>
              <a:rPr b="0" lang="en-US" sz="1800" spc="-1" strike="noStrike">
                <a:solidFill>
                  <a:srgbClr val="ff00ff"/>
                </a:solidFill>
                <a:latin typeface="Tahoma"/>
                <a:ea typeface="隶书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638680" y="5334120"/>
            <a:ext cx="0" cy="38088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1066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探究选用的药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09480" y="1828800"/>
          <a:ext cx="8001000" cy="4608360"/>
        </p:xfrm>
        <a:graphic>
          <a:graphicData uri="http://schemas.openxmlformats.org/drawingml/2006/table">
            <a:tbl>
              <a:tblPr/>
              <a:tblGrid>
                <a:gridCol w="1236960"/>
                <a:gridCol w="1833480"/>
                <a:gridCol w="2340000"/>
                <a:gridCol w="259056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华文中宋"/>
                        </a:rPr>
                        <a:t>编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9933"/>
                      </a:solidFill>
                    </a:lnR>
                    <a:lnT w="2808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华文中宋"/>
                        </a:rPr>
                        <a:t>实验内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2808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华文中宋"/>
                        </a:rPr>
                        <a:t>实验现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2808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华文中宋"/>
                        </a:rPr>
                        <a:t>实验分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>
                      <a:noFill/>
                    </a:lnR>
                    <a:lnT w="2808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华文中宋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990033"/>
                          </a:solidFill>
                          <a:latin typeface="华文中宋"/>
                        </a:rPr>
                        <a:t>Na</a:t>
                      </a:r>
                      <a:r>
                        <a:rPr b="0" lang="zh-CN" sz="2400" spc="-1" strike="noStrike" baseline="-25000">
                          <a:solidFill>
                            <a:srgbClr val="990033"/>
                          </a:solidFill>
                          <a:latin typeface="华文中宋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990033"/>
                          </a:solidFill>
                          <a:latin typeface="华文中宋"/>
                        </a:rPr>
                        <a:t>CO</a:t>
                      </a:r>
                      <a:r>
                        <a:rPr b="0" lang="zh-CN" sz="2400" spc="-1" strike="noStrike" baseline="-25000">
                          <a:solidFill>
                            <a:srgbClr val="990033"/>
                          </a:solidFill>
                          <a:latin typeface="华文中宋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990033"/>
                          </a:solidFill>
                          <a:latin typeface="华文中宋"/>
                        </a:rPr>
                        <a:t>粉末和稀盐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中宋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>
                      <a:noFill/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</a:tr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华文中宋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990033"/>
                          </a:solidFill>
                          <a:latin typeface="华文中宋"/>
                        </a:rPr>
                        <a:t>CaCO</a:t>
                      </a:r>
                      <a:r>
                        <a:rPr b="0" lang="zh-CN" sz="2400" spc="-1" strike="noStrike" baseline="-25000">
                          <a:solidFill>
                            <a:srgbClr val="990033"/>
                          </a:solidFill>
                          <a:latin typeface="华文中宋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990033"/>
                          </a:solidFill>
                          <a:latin typeface="华文中宋"/>
                        </a:rPr>
                        <a:t>粉末和稀盐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中宋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>
                      <a:noFill/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华文中宋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990033"/>
                          </a:solidFill>
                          <a:latin typeface="华文中宋"/>
                        </a:rPr>
                        <a:t>大理石和稀盐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中宋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>
                      <a:noFill/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noFill/>
                  </a:tcPr>
                </a:tc>
              </a:tr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华文中宋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2808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990033"/>
                          </a:solidFill>
                          <a:latin typeface="华文中宋"/>
                        </a:rPr>
                        <a:t>大理石和稀硫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2808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2808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>
                      <a:noFill/>
                    </a:lnR>
                    <a:lnT w="5760">
                      <a:solidFill>
                        <a:srgbClr val="ff9933"/>
                      </a:solidFill>
                    </a:lnT>
                    <a:lnB w="28080">
                      <a:solidFill>
                        <a:srgbClr val="ff99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3657600" y="2682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有大量气泡产生，反应剧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3597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有大量气泡产生，反应剧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2666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反应速率太快，不易收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3581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反应速率太快，不易收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458784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产生气泡速率比较适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44956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适合实验室制取二氧化碳气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557856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有气泡产生，会减慢，停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5578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反应速率慢，不易收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4360" y="3789360"/>
            <a:ext cx="8001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结论：实验室制取二氧化碳常用的理想药品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华文中宋"/>
                <a:ea typeface="华文中宋"/>
              </a:rPr>
              <a:t>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华文中宋"/>
                <a:ea typeface="华文中宋"/>
              </a:rPr>
              <a:t>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反应的化学方程式是</a:t>
            </a:r>
            <a:r>
              <a:rPr b="1" lang="zh-CN" sz="1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51640" y="545004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4437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石灰石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4437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稀盐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9360" y="6019920"/>
            <a:ext cx="769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CaCO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2HCl = CaCl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H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O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CO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4560" y="476280"/>
            <a:ext cx="856944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中宋"/>
                <a:ea typeface="华文中宋"/>
              </a:rPr>
              <a:t>制取二氧化碳药品选取原则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  </a:t>
            </a:r>
            <a:r>
              <a:rPr b="1" lang="zh-CN" sz="3000" spc="-1" strike="noStrike">
                <a:solidFill>
                  <a:srgbClr val="3333cc"/>
                </a:solidFill>
                <a:latin typeface="华文中宋"/>
                <a:ea typeface="华文中宋"/>
              </a:rPr>
              <a:t>①</a:t>
            </a:r>
            <a:r>
              <a:rPr b="1" lang="zh-CN" sz="3000" spc="-1" strike="noStrike">
                <a:solidFill>
                  <a:srgbClr val="3333cc"/>
                </a:solidFill>
                <a:latin typeface="华文中宋"/>
                <a:ea typeface="华文中宋"/>
              </a:rPr>
              <a:t>反应条件是否容易达到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华文中宋"/>
                <a:ea typeface="华文中宋"/>
              </a:rPr>
              <a:t>  ②</a:t>
            </a:r>
            <a:r>
              <a:rPr b="1" lang="zh-CN" sz="3000" spc="-1" strike="noStrike">
                <a:solidFill>
                  <a:srgbClr val="3333cc"/>
                </a:solidFill>
                <a:latin typeface="华文中宋"/>
                <a:ea typeface="华文中宋"/>
              </a:rPr>
              <a:t>产生气体的量是多少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华文中宋"/>
                <a:ea typeface="华文中宋"/>
              </a:rPr>
              <a:t>  ③</a:t>
            </a:r>
            <a:r>
              <a:rPr b="1" lang="zh-CN" sz="3000" spc="-1" strike="noStrike">
                <a:solidFill>
                  <a:srgbClr val="3333cc"/>
                </a:solidFill>
                <a:latin typeface="华文中宋"/>
                <a:ea typeface="华文中宋"/>
              </a:rPr>
              <a:t>收集的气体是否纯净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华文中宋"/>
                <a:ea typeface="华文中宋"/>
              </a:rPr>
              <a:t>  ④</a:t>
            </a:r>
            <a:r>
              <a:rPr b="1" lang="zh-CN" sz="3000" spc="-1" strike="noStrike">
                <a:solidFill>
                  <a:srgbClr val="3333cc"/>
                </a:solidFill>
                <a:latin typeface="华文中宋"/>
                <a:ea typeface="华文中宋"/>
              </a:rPr>
              <a:t>装置、操作是否简单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华文中宋"/>
                <a:ea typeface="华文中宋"/>
              </a:rPr>
              <a:t>  ⑤</a:t>
            </a:r>
            <a:r>
              <a:rPr b="1" lang="zh-CN" sz="3000" spc="-1" strike="noStrike">
                <a:solidFill>
                  <a:srgbClr val="3333cc"/>
                </a:solidFill>
                <a:latin typeface="华文中宋"/>
                <a:ea typeface="华文中宋"/>
              </a:rPr>
              <a:t>原料是否易得、价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75840" y="1006200"/>
            <a:ext cx="606960" cy="49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隶书"/>
              </a:rPr>
              <a:t>实验室制取气体的装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1752480"/>
            <a:ext cx="304920" cy="3505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23280" y="911880"/>
            <a:ext cx="606960" cy="29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行楷"/>
                <a:ea typeface="华文行楷"/>
              </a:rPr>
              <a:t>气体发生装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50280" y="3753360"/>
            <a:ext cx="606960" cy="29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华文行楷"/>
              </a:rPr>
              <a:t>气体收集装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2496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宋体"/>
              </a:rPr>
              <a:t>反应物的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19520" y="1143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固体和固体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19520" y="16765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固体和液体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19520" y="2209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液体和液体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0880" y="320040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宋体"/>
              </a:rPr>
              <a:t>反应条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是否需要加热、加催化剂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1981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1371600"/>
            <a:ext cx="76320" cy="1447920"/>
          </a:xfrm>
          <a:custGeom>
            <a:avLst/>
            <a:gdLst>
              <a:gd name="textAreaLeft" fmla="*/ 48960 w 76320"/>
              <a:gd name="textAreaRight" fmla="*/ 76320 w 763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01080" y="259092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隶书"/>
              </a:rPr>
              <a:t>。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18240" y="228600"/>
            <a:ext cx="465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二、</a:t>
            </a: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怎样设计实验室制取气体的装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45720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55200" y="4267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排空气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11480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04040" y="3851280"/>
            <a:ext cx="31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密度比空气的</a:t>
            </a:r>
            <a:r>
              <a:rPr b="0" lang="zh-CN" sz="2400" spc="-1" strike="noStrike">
                <a:solidFill>
                  <a:srgbClr val="ff00ff"/>
                </a:solidFill>
                <a:latin typeface="Tahoma"/>
              </a:rPr>
              <a:t>大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——向</a:t>
            </a:r>
            <a:r>
              <a:rPr b="0" lang="zh-CN" sz="2400" spc="-1" strike="noStrike">
                <a:solidFill>
                  <a:srgbClr val="ff00ff"/>
                </a:solidFill>
                <a:latin typeface="Tahoma"/>
              </a:rPr>
              <a:t>上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排空气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04040" y="4724280"/>
            <a:ext cx="31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密度比空气的</a:t>
            </a:r>
            <a:r>
              <a:rPr b="0" lang="zh-CN" sz="2400" spc="-1" strike="noStrike">
                <a:solidFill>
                  <a:srgbClr val="ff00ff"/>
                </a:solidFill>
                <a:latin typeface="Tahoma"/>
              </a:rPr>
              <a:t>小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——向</a:t>
            </a:r>
            <a:r>
              <a:rPr b="0" lang="zh-CN" sz="2400" spc="-1" strike="noStrike">
                <a:solidFill>
                  <a:srgbClr val="ff00ff"/>
                </a:solidFill>
                <a:latin typeface="Tahoma"/>
              </a:rPr>
              <a:t>下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排空气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659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排水法（不易溶于水、不与水发生反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456000" y="380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ahoma"/>
                <a:ea typeface="隶书"/>
              </a:rPr>
              <a:t>问题与讨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94160" y="1219320"/>
            <a:ext cx="63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、实验室常用哪两种方法制取氧气？写出化学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式，并对比反应物状态、反应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327672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、分析制取装置有什么不同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209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隶书"/>
              </a:rPr>
              <a:t>2H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  <a:ea typeface="隶书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隶书"/>
              </a:rPr>
              <a:t>O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  <a:ea typeface="隶书"/>
              </a:rPr>
              <a:t>2 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隶书"/>
              </a:rPr>
              <a:t>2H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  <a:ea typeface="隶书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隶书"/>
              </a:rPr>
              <a:t>O+O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  <a:ea typeface="隶书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60880" y="214632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隶书"/>
              </a:rPr>
              <a:t>MnO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  <a:ea typeface="隶书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84360" y="2421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250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495680" y="220932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2859120"/>
            <a:ext cx="47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隶书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隶书"/>
              </a:rPr>
              <a:t>2KMnO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隶书"/>
              </a:rPr>
              <a:t>4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隶书"/>
              </a:rPr>
              <a:t>        K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隶书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隶书"/>
              </a:rPr>
              <a:t>MnO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隶书"/>
              </a:rPr>
              <a:t>4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隶书"/>
              </a:rPr>
              <a:t>+MnO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隶书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隶书"/>
              </a:rPr>
              <a:t>+O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隶书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3124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27432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95880" y="289512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48320" y="3886200"/>
            <a:ext cx="2438280" cy="1752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981080" y="3809880"/>
            <a:ext cx="2133720" cy="1905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467480" y="3657600"/>
            <a:ext cx="1447920" cy="1523880"/>
          </a:xfrm>
          <a:prstGeom prst="wedgeRoundRectCallout">
            <a:avLst>
              <a:gd name="adj1" fmla="val -75986"/>
              <a:gd name="adj2" fmla="val 530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加热高锰酸钾制取氧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3809880"/>
            <a:ext cx="1371600" cy="1143000"/>
          </a:xfrm>
          <a:prstGeom prst="wedgeRectCallout">
            <a:avLst>
              <a:gd name="adj1" fmla="val 75578"/>
              <a:gd name="adj2" fmla="val 504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分解双氧水制取氧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61760" y="5738760"/>
            <a:ext cx="46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隶书"/>
              </a:rPr>
              <a:t>由于反应物的状态和反应条件不同，所以所采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隶书"/>
              </a:rPr>
              <a:t>的气体发生装置也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00400" y="130968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隶书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隶书"/>
              </a:rPr>
              <a:t>、二氧化碳和氧气相关性质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42840" y="2682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ahoma"/>
                <a:ea typeface="隶书"/>
              </a:rPr>
              <a:t>三、探究实验室制取二氧化碳的装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33520" y="2286000"/>
            <a:ext cx="8229600" cy="2743200"/>
            <a:chOff x="533520" y="2286000"/>
            <a:chExt cx="8229600" cy="2743200"/>
          </a:xfrm>
        </p:grpSpPr>
        <p:sp>
          <p:nvSpPr>
            <p:cNvPr id="140" name=""/>
            <p:cNvSpPr/>
            <p:nvPr/>
          </p:nvSpPr>
          <p:spPr>
            <a:xfrm>
              <a:off x="1752840" y="3124080"/>
              <a:ext cx="70102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3520" y="3124080"/>
              <a:ext cx="12193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52840" y="4114800"/>
              <a:ext cx="7010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520" y="4114800"/>
              <a:ext cx="12193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52840" y="2286000"/>
              <a:ext cx="7010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3520" y="2286000"/>
              <a:ext cx="1219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3520" y="228600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520" y="31240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3520" y="502920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3520" y="2286000"/>
              <a:ext cx="0" cy="2743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52840" y="228600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763120" y="2286000"/>
              <a:ext cx="0" cy="2743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3520" y="4114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3" name=""/>
          <p:cNvGraphicFramePr/>
          <p:nvPr/>
        </p:nvGraphicFramePr>
        <p:xfrm>
          <a:off x="3195720" y="2214720"/>
          <a:ext cx="237960" cy="280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5720" y="2214720"/>
                    <a:ext cx="23796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3352680" y="2286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34320" y="2286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2286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720" y="3352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二氧化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8000" y="414972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氧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隶书"/>
              </a:rPr>
              <a:t>高锰酸钾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59040" y="2233440"/>
            <a:ext cx="154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反应物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91160" y="2386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反应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92280" y="2286000"/>
            <a:ext cx="15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气体密度比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气大或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25560" y="25146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是否与水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11160" y="3200400"/>
            <a:ext cx="15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ahoma"/>
                <a:ea typeface="隶书"/>
              </a:rPr>
              <a:t>固体的液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ahoma"/>
                <a:ea typeface="隶书"/>
              </a:rPr>
              <a:t>     </a:t>
            </a:r>
            <a:r>
              <a:rPr b="0" lang="zh-CN" sz="2400" spc="-1" strike="noStrike">
                <a:solidFill>
                  <a:srgbClr val="ff33cc"/>
                </a:solidFill>
                <a:latin typeface="Tahoma"/>
                <a:ea typeface="隶书"/>
              </a:rPr>
              <a:t>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77920" y="3376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Tahoma"/>
                <a:ea typeface="隶书"/>
              </a:rPr>
              <a:t>常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11400" y="3452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Tahoma"/>
                <a:ea typeface="隶书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97400" y="3276720"/>
            <a:ext cx="15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ahoma"/>
                <a:ea typeface="隶书"/>
              </a:rPr>
              <a:t>能溶于水并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ahoma"/>
                <a:ea typeface="隶书"/>
              </a:rPr>
              <a:t>   </a:t>
            </a:r>
            <a:r>
              <a:rPr b="0" lang="zh-CN" sz="2400" spc="-1" strike="noStrike">
                <a:solidFill>
                  <a:srgbClr val="ff33cc"/>
                </a:solidFill>
                <a:latin typeface="Tahoma"/>
                <a:ea typeface="隶书"/>
              </a:rPr>
              <a:t>与水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01400" y="4290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Tahoma"/>
                <a:ea typeface="隶书"/>
              </a:rPr>
              <a:t>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77920" y="4290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Tahoma"/>
                <a:ea typeface="隶书"/>
              </a:rPr>
              <a:t>加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54080" y="4290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Tahoma"/>
                <a:ea typeface="隶书"/>
              </a:rPr>
              <a:t>略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87800" y="4367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Tahoma"/>
                <a:ea typeface="隶书"/>
              </a:rPr>
              <a:t>不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85880" y="5378400"/>
            <a:ext cx="252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想一想：实验室制取二氧化碳的装置是否与制取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气的装置相同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1:06:38Z</dcterms:created>
  <dc:creator>微软用户</dc:creator>
  <dc:description/>
  <dc:language>en-US</dc:language>
  <cp:lastModifiedBy>恒谦教育网 http://www.hengqian.com</cp:lastModifiedBy>
  <dcterms:modified xsi:type="dcterms:W3CDTF">2011-03-15T15:07:26Z</dcterms:modified>
  <cp:revision>9</cp:revision>
  <dc:subject/>
  <dc:title>幻灯片 1</dc:title>
</cp:coreProperties>
</file>